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111-D582-4F46-9AC9-FABAFB37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B8F-6537-4846-8D01-3D7D56DB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4D5-54AB-4F4C-B756-35C888D2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14F-F626-4C16-B4FB-F3B18364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FEA-9E2D-41DF-8B24-5F1B5BA1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7830-B3DD-46E9-A0A6-5CCBA3DA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7A06-834C-4741-97F1-4E44EC1A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B20F-D8E5-415B-903A-0DBC369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53E8-738D-414D-9C5C-EAE870BC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D00E-D915-4B1B-8392-75EE66E8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EE1-0510-4103-9904-9CFFF75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FBC4-FA86-4E4B-9DF7-987E5483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E2B2-5E37-4FC7-8429-6877D31F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B5A9-3987-449E-9BF8-E9E9DAC6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8CBD-6AE2-4740-84C8-7F323B5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0393-B9D6-4E27-A312-4BA992C0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B07E-A747-48FB-AA42-1B14C7E4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CB1A-740C-42B0-B25F-7600893D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F58-9A20-4BBB-A8A7-82753D5B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5DC-B5DA-4AD4-8E1F-3B2C8D36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68B-48AE-425A-96DF-1C11BDBD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1C1-3CF4-47D6-ABAF-139D1BA1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24A-1FB0-4CAC-9CBE-DF7F1197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0D3-8DC5-42E1-8A07-3B310989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7A1F-D733-4D41-B494-99910C20C686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1" descr="SW이미지_2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Rectangle 33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8" name="Rectangle 34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9" name="Rectangle 35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0" name="Group 36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Freeform 37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2" name="Freeform 38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53" name="Group 39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AutoShape 40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5" name="Freeform 41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6" name="Freeform 42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Freeform 43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Freeform 44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9" name="Text Box 29"/>
          <p:cNvSpPr/>
          <p:nvPr/>
        </p:nvSpPr>
        <p:spPr>
          <a:xfrm>
            <a:off x="429120" y="2602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NEUQ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0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541B-1E8C-43A3-8313-B706623689B5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C++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굴림"/>
              </a:rPr>
              <a:t>程序设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8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楷体"/>
              </a:rPr>
              <a:t>李国瑞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lgr@mail.neuq.edu.cn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840" y="128592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用参数初始化表对数据成员初始化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在函数体内对数据成员初始化，而是在函数首部实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::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构造函数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[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参数表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])[: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成员初始化表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{   [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构造函数体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]  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∷Box(int h,int w,int len):height(h)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idth(w)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length(len){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数据成员是数组，应当在构造函数中用语句进行赋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Student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(int n, char s, char nam[]):num(n),sex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strcpy(name, nam); 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n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];    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7120" y="1371600"/>
            <a:ext cx="85010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构造函数的重载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一个类中可以定义多个构造函数，以便对类对象提供不同的初始化的方法，供用户选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这些构造函数具有相同的名字，而参数的个数或参数的类型不相同。这称为构造函数的重载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调用构造函数时不必给出实参的构造函数，称为默认构造函数。一个类只能有一个默认构造函数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尽管在一个类中可以包含多个构造函数，但是对于每一个对象来说，建立对象时只执行其中一个，并非每个构造函数都被执行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3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基础上，定义两个构造函数，其中一个无参数，一个有参数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Box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 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int h,int w,int len):height(h),width(w),length(len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volume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eigh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widt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length;  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∷Box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height=1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idth=1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length=10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Box∷volume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(height*width*length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1;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1 is ″&lt;&lt;box1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2(15,30,25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2 is ″&lt;&lt;box2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使用默认参数的构造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构造函数中参数的值可以指定为某些默认值，即如果用户不指定实参值，编译系统就使形参取默认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4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程序中的构造函数改用含默认值的参数，长、宽、高的默认值均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Bo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Box(int h=10,int w=10,int len=1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volume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eigh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wid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length;   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1428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∷Box(int h,int w,int len)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height=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idth=w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length=len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Box∷volume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(height*width*length)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Box box1;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1 is ″&lt;&lt;box1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2(15);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2 is ″&lt;&lt;box2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3(15,3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3 is ″&lt;&lt;box3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4(15,30,2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4 is ″&lt;&lt;box4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该在声明构造函数时指定默认值，而不能只在定义构造函数时指定默认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构造函数的全部参数都指定了默认值，则在定义对象时可以给一个或几个实参，也可以不给出实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一个类中定义了全部是默认参数的构造函数后，不能再定义重载构造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int h=10,int w=10,int len=1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int,i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1;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无法确定调用上述哪个函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2(5, 20);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无法确定调用上述哪个函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2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析构函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析构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~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当对象的生命期结束时，会自动执行析构函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在一个函数中定义了一个局部对象，当这个函数被调用结束时，执行析构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局部对象只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结束或调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xi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结束程序时，调用析构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全局对象在程序的流程离开其作用域时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结束或调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xi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时，调用析构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运算符动态地建立了一个对象，当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运算符释放该对象时，调用析构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71600"/>
            <a:ext cx="83296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析构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析构函数的作用并不是删除对象，而是在撤销对象占用的内存之前完成一些清理工作，使这部分内存可以被程序分配给新对象使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析构函数不返回任何值，没有函数类型，也没有函数参数。因此不能被重载，一个类只能有一个析构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用户没有定义析构函数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译系统会自动生成一个析构函数，但它实际上什么操作都不进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5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含构造函数和析构函数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程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&lt;string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(int n,string nam,char s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num=n;   name=nam;   sex=s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Constructor called.″&lt;&lt;endl;   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~Student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Destructor called.″&lt;&lt;endl;    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display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″num: ″&lt;&lt;num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name: ″&lt;&lt;name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sex: ″&lt;&lt;sex&lt;&lt;endl&lt;&lt;endl;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nu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10]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 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755640" y="227664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第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  <a:ea typeface="宋体"/>
              </a:rPr>
              <a:t>9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章  怎样使用类和对象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3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调用构造函数和析构函数的顺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tudent stud1(10010,″Wang_li″,′f′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1.display( );    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stud2(10011,″Zhang_fun″,′m′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2.display( ); 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ca3c8"/>
                </a:solidFill>
                <a:latin typeface="Verdana"/>
                <a:ea typeface="宋体"/>
              </a:rPr>
              <a:t>调用析构函数的次序正好与调用构造函数的次序相反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构造的后析构，后构造的先析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02" name="Picture 1027" descr="F:\C++程序设计\tu\tu\图9.1.tif"/>
          <p:cNvPicPr/>
          <p:nvPr/>
        </p:nvPicPr>
        <p:blipFill>
          <a:blip r:embed="rId1"/>
          <a:stretch/>
        </p:blipFill>
        <p:spPr>
          <a:xfrm>
            <a:off x="6000840" y="1214280"/>
            <a:ext cx="27748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4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对象数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对象数组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象数组的每一个元素都是同类的对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tudent stud[50]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构造函数只有一个参数，在定义数组时可以直接在等号后面的花括号内提供实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tudent stud[3]={60,70,78}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构造函数有多个参数，在花括号中分别写出构造函数并指定实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tudent Stud[3]=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tudent(1001,18,87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tudent(1002,19,76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tudent(1003,18,72)   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4200" y="1371600"/>
            <a:ext cx="8715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6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象数组的使用方法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Box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int h=10,int w=12,int len=15): height(h),width(w),length(len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volume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eigh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widt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lengt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Box∷volume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return(height*width*length)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Box a[3]={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10,12,15),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15,18,20),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16,20,26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volume of a[0] is ″&lt;&lt;a[0].volume( )&lt;&lt;endl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volume of a[1] is ″&lt;&lt;a[1].volume( )&lt;&lt;endl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volume of a[2] is ″&lt;&lt;a[2].volume( )&lt;&lt;endl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5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对象指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对象的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定义一个指针变量，用来存放对象的地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对象指针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ou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inu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se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get_time( );  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Time∷get_time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cout&lt;&lt;hour&lt;&lt;″: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minute&lt;&lt;″: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sec&lt;&lt;endl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5072040" y="28576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 *pt;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 t1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t=&amp;t1;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pt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*pt).hour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t-&gt;hour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*pt).get_time ( )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t-&gt;get_time ( )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对象成员的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向对象数据成员的指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数据类型名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*p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1=&amp;t1.hour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p1&lt;&lt;end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向对象成员函数的指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数据类型名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∷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(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参数表列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=&amp;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∷成员函数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(Time∷*p2)( 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2=&amp;Time∷get_tim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7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关对象指针的使用方法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(int,int,i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ou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inu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se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get_time( )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∷Time(int h,int m,int 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hour=h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minute=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ec=s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Time∷get_time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hour&lt;&lt;″:″&lt;&lt;minute&lt;&lt;″:″ &lt;&lt;sec&lt;&lt;endl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Time t1(10,13,5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*p1=&amp;t1.hou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p1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1.get_time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 *p2=&amp;t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2-&gt;get_time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(Time∷*p3)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3=&amp;Time∷get_tim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(t1.*p3)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this 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每一个成员函数中都包含一个特殊的指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它的值是当前被调用的成员函数所在的对象的起始地址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Box∷volume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return (height*width*length)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Box∷volume(Box *th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return(this-&gt;height * this-&gt;width * this-&gt;length)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译系统自动实现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被调用的成员函数所在的对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28" name="Picture 3" descr="F:\C++程序设计\tu\tu\图8.5.tif"/>
          <p:cNvPicPr/>
          <p:nvPr/>
        </p:nvPicPr>
        <p:blipFill>
          <a:blip r:embed="rId1"/>
          <a:stretch/>
        </p:blipFill>
        <p:spPr>
          <a:xfrm>
            <a:off x="2500200" y="4921200"/>
            <a:ext cx="3581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6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共用数据的保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常对象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凡希望保证数据成员不被改变的对象，可以声明为常对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onst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对象名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[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实参表列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onst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 对象名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[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实参表列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nst Time t1(10,15,3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1.get_time( 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定义常对象时必须对其初始化，之后不能再改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一个对象被声明为常对象，则只能调用它的常成员函数，不能调用该对象的普通成员函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成员函数只能访问常对象中的数据成员，但不允许改变常对象中数据成员的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1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用构造函数对类对象进行初始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构造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实现对象的初始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种特殊的成员函数，与其他成员函数不同，不需要用户来调用它，而是在建立对象时自动执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构造函数的名字必须与类名同名，不返回任何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类可具有多个构造函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常对象成员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数据成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数据成员的值是不能改变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只能通过构造函数的参数初始化表对常数据成员进行初始化，其他任何函数都不能对其赋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nst int hour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∷Time(int h):hour(h){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常对象成员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成员函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将成员函数声明为常成员函数，则只能引用本类中的数据成员，而不能修改它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名 函数名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参数表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 con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get_time( ) con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不要误认为常对象中的成员函数都是常成员函数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常对象只保证其数据成员是常数据成员，其值不被修改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如果在常对象中的成员函数未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，编译系统把它作为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成员函数处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371600"/>
            <a:ext cx="8472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对象的常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指针变量声明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，这样指针值始终保持为其初值，不能改变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*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onst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 t1(10,12,15),t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 * const ptr1;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r1=&amp;t1;                     //ptr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指向对象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，此后不能再改变指向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r1=&amp;t2;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错误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tr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不能改变指向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指向对象的常指针变量的值不能改变，即始终指向同一个对象，但可以改变其所指向对象的值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往往用常指针作为函数的形参，目的是不允许在函数执行过程中改变指针变量的值，使其始终指向原来的对象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常对象的指针变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onst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名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*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果一个对象已被声明为常对象，只能用指向常对象的指针变量指向它，而不能用普通指针变量去指向它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果定义了一个指向常对象的指针变量，并使它指向一个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ns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对象，则其指向的对象是不能通过指针来改变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 t1(10,12,1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nst Time *p=&amp;t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(*p).hour=18;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指向常对象的指针最常用于函数的形参，目的是在保护形参指针所指向的对象，使它在函数执行过程中不被修改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对象的常引用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不希望引用变量修改所引用变量的值，可将其声明为常引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fun(Time &amp;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t.hour=18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fun(const Time &amp;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t.hour=18;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7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对象的动态建立和释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动态建立和释放对象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运算符动态建立对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运算符撤销对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*pt=new Box(12,15,1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pt-&gt;height;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pt-&gt;volume( 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elete p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8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对象的赋值和复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对象的赋值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同类的对象之间可以互相赋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对象中所有数据成员的值赋给另一个同类的对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对象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1 =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对象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stud1,stud2;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定义两个同类的对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2=stud1;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将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赋给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：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象的赋值只对其中的数据成员赋值，而不对成员函数赋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的数据成员中不能包括动态分配的数据，否则在赋值时可能出现严重后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9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象的赋值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Box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int=10,int=10,int=10);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有默认参数的构造函数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volume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eigh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widt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length; 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∷Box(int h,int w,int len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height=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idth=w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length=len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Box∷volume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(height*width*length);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返回体积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1(15,30,25),box2;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1 is ″&lt;&lt;box1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box2=box1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2 is ″&lt;&lt;box2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对象的复制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克隆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一个已有的对象快速地复制出多个完全相同的对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象赋值与复制的区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象的赋值是对一个已经存在的对象赋值，因此必须先定义被赋值的对象，才能进行赋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象的复制则是从无到有地建立一个新对象，并使它与一个已有的对象完全相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 对象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2(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对象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2(box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建立对象时调用复制构造函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∷Box(const Box&amp;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height=b.height;   width=b.width;  length=b.length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础上定义构造成员函数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Time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hour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minute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ec=0; 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et_time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how_time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ou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inu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sec;   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371600"/>
            <a:ext cx="83296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用户自己未定义复制构造函数，则编译系统会自动提供一个默认的复制构造函数，其作用只是简单地复制类中每个数据成员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 对象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2=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对象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2=box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普通构造函数在程序中建立对象时被调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复制构造函数在用已有对象复制一个新对象时被调用：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程序中需要新建立一个对象，并用另一个同类的对象对它初始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当函数的参数为类的对象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的返回值是类的对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9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态成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13840" y="1371600"/>
            <a:ext cx="8643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静态数据成员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Bo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volume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int heigh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wid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leng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静态数据成员被所有对象所共有，而不只属于某个对象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静态的数据成员在内存中只占一份空间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560" y="1371600"/>
            <a:ext cx="87138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：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静态数据成员是在所有对象之外单独开辟空间。只要在类中定义了静态数据成员，即使不定义对象，也为静态数据成员分配空间，它可以被引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静态数据成员是在程序编译时被分配空间的，到程序结束时才释放空间。它不随对象的建立而分配空间，也不随对象的撤销而释放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静态数据成员只能在类体外进行初始化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数据类型 类名∷静态数据成员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值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Box∷height=1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静态成员变量在类中仅仅是声明，没有定义，所以要在类的外面定义，实际上是给静态成员变量分配内存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：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静态数据成员既可以通过对象名引用，也可以通过类名来引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::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.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了静态数据成员，各对象之间的数据有了沟通的渠道，实现数据共享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10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引用静态数据成员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Bo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int,i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volume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atic int heigh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wid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length;  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∷Box(int w,int l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width=w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length=len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Box∷volume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(height*width*length)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int Box∷height=1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a(15,20),b(20,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a.heigh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endl;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b.height&lt;&lt;endl;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Box∷heigh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end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a.volume( )&lt;&lt;end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静态成员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静态成员函数是类的一部分，而不是对象的一部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要在类外调用静态成员函数，要用类名和域运算符“∷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∷volume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静态成员函数没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针，主要用来访问静态数据成员，而不访问非静态成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1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静态成员函数的应用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(int n,int a,float s):num(n),age(a),score(s){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total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atic float average( 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nu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g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atic float sum;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atic int count;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tudent∷total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um+=score;     count++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float  Student∷average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{  return(sum/count)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tudent∷sum=0;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Student∷count=0;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Student stud[3]={Student(1001,18,70),Student(1002,19,78),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(1005,20,98)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n;         cout&lt;&lt;″please input the number of students:″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n;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nt i=0;i&lt;n;i++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[i].total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average score of ″&lt;&lt;n&lt;&lt;″ students is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udent∷average( 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10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友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友元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友元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ri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访问与其有好友关系的类中的私有成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友元函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普通函数声明为友元函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友元成员函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友元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Time∷set_time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in&gt;&gt;hour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minut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sec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Time∷show_time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cout&lt;&lt;hour&lt;&lt;″:″&lt;&lt;minute&lt;&lt;″:″&lt;&lt;sec&lt;&lt;endl; 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 t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1.set_time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1.show_time( 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 t2;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2.show_time( );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将普通函数声明为友元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12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友元函数的简单例子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(int,int,i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friend void display(Time &amp;)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ou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inu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sec;    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∷Time(int h,int m,int 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hour=h;    minute=m;    sec=s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isplay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函数不是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类的成员函数，不能默认引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类的数据成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员，必须指定要访问的对象。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void display(Time&amp; t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cout&lt;&lt;t.hour&lt;&lt;″:″&lt;&lt;t.minute&lt;&lt;″:″&lt;&lt;t.sec&lt;&lt;endl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Time t1(10,13,56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display(t1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友元成员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13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友元成员函数的简单应用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class Date;                 //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对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Date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类的提前引用声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(int,int,i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display(Date &amp;);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ou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inu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se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Date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(int,int,int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friend void Time∷display(Date &amp;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ont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day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year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ime∷Time(int h,int m,int s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hour=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minute=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ec=s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0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void Time∷display(Date &amp;d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cout&lt;&lt;d.month&lt;&lt;″/″&lt;&lt;d.day&lt;&lt;″/″&lt;&lt;d.year&lt;&lt;endl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cout&lt;&lt;hour&lt;&lt;″:″&lt;&lt;minute&lt;&lt;″:″&lt;&lt;sec&lt;&lt;endl;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∷Date(int m,int d,int y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{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month=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y=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year=y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Time t1(10,13,56);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 d1(12,25,2004)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t1.display(d1)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0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371600"/>
            <a:ext cx="8400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友元类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将一个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为另一个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“朋友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这时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就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的友元类。友元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的所有函数都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的友元函数，可以访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中的所有成员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friend class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riend class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友元的关系是单向的而不是双向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友元的关系不能传递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非确有必要，一般并不把整个类声明为友元类，而只将确实有需要的成员函数声明为友元函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友元破坏类的封装原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9.11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模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类模板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个或多个功能相同的类，仅仅是数据类型不同，可以类模板抽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Compare_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(int a,int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x=a;y=b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x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(x&gt;y)?x:y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(x&lt;y)?x:y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13" name="矩形 4"/>
          <p:cNvSpPr/>
          <p:nvPr/>
        </p:nvSpPr>
        <p:spPr>
          <a:xfrm>
            <a:off x="4714920" y="2593800"/>
            <a:ext cx="407196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Compare_float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(float a,float b)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x=a;y=b;  }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max( )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(x&gt;y)?x:y;  }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min( )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(x&lt;y)?x:y;  }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x,y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2560" y="1371600"/>
            <a:ext cx="87152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late &lt;class numtype&gt;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虚拟类型名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typ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会被实际的类型名取代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Compare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类模板名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(numtype a,numtype b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x=a;y=b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type max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 (x&gt;y)?x:y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type m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 (x&lt;y)?x:y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type x,y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&lt;int&gt; cmp1(3,7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&lt;float&gt; cmp2(45.78,93.6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&lt;char&gt; cmp3(′a′,′A′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1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42560" y="1371600"/>
            <a:ext cx="90010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类模板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模板是类的抽象，类是类模板的实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template &lt;class 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类型参数名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类模板名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&lt;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实际参数名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&gt; 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对象名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参数表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在类模板外定义成员函数，应写成类模板的形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template &lt;class 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虚拟类型参数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函数类型 类模板名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&lt;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虚拟类型参数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&gt;∷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成员函数名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函数形参表列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) {…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late &lt;class numtyp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type Compare&lt;numtype&gt;::max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return (x&gt;y)?x:y)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14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声明一个类模板，利用它分别实现两个整数、浮点数和字符的比较，求出大数和小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late&lt;class numtype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Compare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(numtype a,numtype b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x=a;y=b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type max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 (x&gt;y)?x:y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type m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return (x&lt;y)?x:y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type x,y; 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建立类对象时会自动调用构造函数，每建立一个对象，就调用一次构造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构造函数没有返回值，因此也没有类型，它的作用只是对对象进行初始化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构造函数不需用户调用，也不能被用户调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构造函数的函数体中不仅可以对数据成员赋初值，而且可以包含其他语句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用户自己没有定义构造函数，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系统会自动生成一个构造函数，只是这个构造函数的函数体是空的，也没有参数，不执行初始化操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3840" y="128592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mpare&lt;int&gt; cmp1(3,7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mp1.max( )&lt;&lt;″ is the Maximum of two integer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bers.″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mp1.min( )&lt;&lt;″ is the Minimum of two integer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bers.″&lt;&lt;endl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&lt;float&gt; cmp2(45.78,93.6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mp2.max( )&lt;&lt;″ is the Maximum of two float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bers.″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mp2.min( )&lt;&lt;″ is the Minimum of two float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bers.″&lt;&lt;endl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mpare&lt;char&gt; cmp3(′a′,′A′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mp3.max( )&lt;&lt;″ is the Maximum of two characters.″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mp3.min( )&lt;&lt;″ is the Minimum of two characters.″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472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声明和使用类模板的步骤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写出一个实际的类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此类中准备改变的类型名改用一个自己指定的虚拟类型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类声明前面加入一行，格式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template &lt;class 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虚拟类型参数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类模板定义对象时用以下形式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类模板名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&lt;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实际类型名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&gt;  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对象名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实参表列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在类模板外定义成员函数，应写成类模板形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template &lt;class 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虚拟类型参数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函数类型 类模板名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&lt;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虚拟类型参数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&gt;∷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成员函数名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函数形参表列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) {…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331" name="AutoShape 5"/>
            <p:cNvSpPr/>
            <p:nvPr/>
          </p:nvSpPr>
          <p:spPr>
            <a:xfrm>
              <a:off x="5003640" y="2354760"/>
              <a:ext cx="3745080" cy="3764520"/>
            </a:xfrm>
            <a:custGeom>
              <a:avLst/>
              <a:gdLst>
                <a:gd name="textAreaLeft" fmla="*/ 548640 w 3745080"/>
                <a:gd name="textAreaRight" fmla="*/ 3196440 w 3745080"/>
                <a:gd name="textAreaTop" fmla="*/ 551160 h 3764520"/>
                <a:gd name="textAreaBottom" fmla="*/ 3213360 h 37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563080" y="5423400"/>
              <a:ext cx="447120" cy="34200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6202080" y="3521520"/>
              <a:ext cx="577800" cy="26438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643840"/>
                <a:gd name="textAreaBottom" fmla="*/ 2644200 h 2643840"/>
              </a:gdLst>
              <a:ahLst/>
              <a:rect l="textAreaLeft" t="textAreaTop" r="textAreaRight" b="textAreaBottom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6701040" y="3476880"/>
              <a:ext cx="590040" cy="25747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574720"/>
                <a:gd name="textAreaBottom" fmla="*/ 2575080 h 2574720"/>
              </a:gdLst>
              <a:ahLst/>
              <a:rect l="textAreaLeft" t="textAreaTop" r="textAreaRight" b="textAreaBottom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7041240" y="3276000"/>
              <a:ext cx="825120" cy="266364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7910640" y="3559320"/>
              <a:ext cx="465120" cy="20952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5553720" y="4203000"/>
              <a:ext cx="788040" cy="180936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1809360"/>
                <a:gd name="textAreaBottom" fmla="*/ 1809720 h 1809360"/>
              </a:gdLst>
              <a:ahLst/>
              <a:rect l="textAreaLeft" t="textAreaTop" r="textAreaRight" b="textAreaBottom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112520" y="2890440"/>
              <a:ext cx="693000" cy="1144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6468840" y="2384280"/>
              <a:ext cx="92160" cy="40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5732640" y="3535560"/>
              <a:ext cx="2320920" cy="85140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5153400" y="3729240"/>
              <a:ext cx="3544200" cy="1541160"/>
            </a:xfrm>
            <a:custGeom>
              <a:avLst/>
              <a:gdLst>
                <a:gd name="textAreaLeft" fmla="*/ 0 w 3544200"/>
                <a:gd name="textAreaRight" fmla="*/ 3544560 w 354420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4" name="Freeform 18"/>
            <p:cNvSpPr/>
            <p:nvPr/>
          </p:nvSpPr>
          <p:spPr>
            <a:xfrm>
              <a:off x="5944680" y="4891680"/>
              <a:ext cx="2697840" cy="99036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941880" y="2628000"/>
              <a:ext cx="1751400" cy="1426320"/>
            </a:xfrm>
            <a:custGeom>
              <a:avLst/>
              <a:gdLst>
                <a:gd name="textAreaLeft" fmla="*/ 0 w 1751400"/>
                <a:gd name="textAreaRight" fmla="*/ 1751760 w 175140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7230960" y="2639160"/>
              <a:ext cx="287640" cy="263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728760" y="2566440"/>
              <a:ext cx="620280" cy="48816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831720" y="2447280"/>
              <a:ext cx="239400" cy="218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5003640" y="2457000"/>
              <a:ext cx="2008440" cy="251064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2510640"/>
                <a:gd name="textAreaBottom" fmla="*/ 2511000 h 2510640"/>
              </a:gdLst>
              <a:ahLst/>
              <a:rect l="textAreaLeft" t="textAreaTop" r="textAreaRight" b="textAreaBottom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321240" y="5680080"/>
              <a:ext cx="550080" cy="4136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192360" y="5563800"/>
              <a:ext cx="543240" cy="18324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5216400" y="4997160"/>
              <a:ext cx="184320" cy="249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5395320" y="4883400"/>
              <a:ext cx="109800" cy="368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5560560" y="4593240"/>
              <a:ext cx="354600" cy="3139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5" name="AutoShape 29"/>
            <p:cNvSpPr/>
            <p:nvPr/>
          </p:nvSpPr>
          <p:spPr>
            <a:xfrm rot="10800000">
              <a:off x="6065280" y="268560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356" name="Rectangle 30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  <a:ea typeface="굴림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  <a:ea typeface="굴림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0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带参数的构造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调用不同对象的构造函数时，从外面将不同的数据传递给构造函数，以实现不同的初始化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构造函数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形参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，类型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形参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名 对象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实参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，实参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2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两个长方柱，其长、宽、高分别为：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)12,20,2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2)10,14,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求它们的体积。编一个程序，在类中用带参数的构造函数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lass Box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ublic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(int,int,int);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volume( );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vate: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heigh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widt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lengt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∷Box(int h,int w,int len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height=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idth=w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length=len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6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Box∷volume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{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(height*width*length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1(12,25,3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1 is ″&lt;&lt;box1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x box2(15,30,21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volume of box2 is ″&lt;&lt;box2.volume( )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6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44:19Z</dcterms:created>
  <dc:creator>Guorui Li</dc:creator>
  <dc:description/>
  <dc:language>en-US</dc:language>
  <cp:lastModifiedBy>GuoruiLi</cp:lastModifiedBy>
  <dcterms:modified xsi:type="dcterms:W3CDTF">2022-12-11T10:23:48Z</dcterms:modified>
  <cp:revision>961</cp:revision>
  <dc:subject/>
  <dc:title>PowerPoint Template</dc:title>
</cp:coreProperties>
</file>