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98D8-2453-42AF-8B17-23771C9245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s://neuronr.iteye.com/blog/7986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768C-0D4F-4B3B-9BF0-F233BFCD94DA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B72-42D2-4C53-81CC-8C51FA34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39C-AC11-428C-845C-5C17C4EC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D21-4892-48E5-B691-F2FD4CD2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3CC-E8A9-4894-B478-5038B02D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257-230A-4BD1-BF6D-5A8B3E3E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CDF-FB1A-4160-AF4C-CDED9790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2FE-30F3-49F3-8ACC-207DE96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7B05-DD45-465E-AE13-9ECB05C4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E20-041E-4986-A538-4610AB5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43E2-97B4-46C3-B4F4-8C358076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4D9-2A36-475B-91F2-562B966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B24F-DC9B-4F87-8928-E2460DE1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806C-B75F-4DF3-A4CB-C69E556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47A1-116A-4304-837A-842535EA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5354-D656-417B-9011-83CA0A6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1F2D-8863-4EBB-A9AD-38CC60A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3770-5AF8-4ABB-8138-4A42178D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C504-93BB-4A96-8A51-9815637C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D8D-5B31-4535-8671-15955613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49B-4A2C-4942-9D61-62E1379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9BD-7AEE-40BC-A7B0-C8BA503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F66-A55A-451A-813B-D4A6925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BA2-B34E-400F-886E-CB1A52A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DD9-24C3-45EB-8402-E7F1416C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238-BA89-471A-9F79-5C0C8F70E8E3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608D-ADAA-4D4E-95BA-9A84458B8E6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C++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굴림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56760" y="1371240"/>
            <a:ext cx="835812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被检测的函数必须放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中，否则不起作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为一个整体出现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必须紧跟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后，不能单独使用，二者之间也不能插入其他语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中必须有用花括号括起来的复合语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-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中只能有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，但却可以有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，以便与不同的异常信息匹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面的圆括号中，一般只写异常信息的类型名，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(double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也可指定变量名，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(double 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7120" y="1371600"/>
            <a:ext cx="84297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捕捉任何类型的异常信息，但应放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-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中的最后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-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可以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现在同一个函数中，也可以不在同一函数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某些情况下，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中可以不包括表达式，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向上继续抛出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抛出的异常信息找不到与之匹配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，那么系统就会调用一个系统函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erminat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使程序终止运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.2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函数嵌套的情况下检测异常处理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f1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f1( )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tch(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OK0!″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end0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1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f2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f2( )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tch(cha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OK1!″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end1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2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f3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f3( )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tch(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Ok2!″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end2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3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double a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throw a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tch(floa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OK3!″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end3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91" name="Picture 3" descr="F:\计算机事业部电子教案\C++程序设计\tu\tu\图14.1.TIF"/>
          <p:cNvPicPr/>
          <p:nvPr/>
        </p:nvPicPr>
        <p:blipFill>
          <a:blip r:embed="rId1"/>
          <a:stretch/>
        </p:blipFill>
        <p:spPr>
          <a:xfrm>
            <a:off x="500040" y="4286160"/>
            <a:ext cx="815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4200" y="1371600"/>
            <a:ext cx="8786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在函数声明中进行异常情况指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允许在声明函数时列出可能抛出的异常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triangle(double,double,double) throw(doubl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triangle(double,double,double) throw(int,double,float, char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异常指定是函数声明的一部分，必须同时出现在函数声明和函数定义的首行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声明函数时未列出可能抛出的异常类型，则该函数可以抛出任何类型的异常信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想声明一个不能抛出异常的函数，可以写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triangle(double,double,double) throw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在异常处理中处理析构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异常处理机制会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抛出异常信息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捕获时，对有关的局部对象进行析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用类对象的析构函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 析构对象的顺序与构造的顺序相反，然后执行与异常信息匹配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中的语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.3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异常处理中处理析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Stu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int n,string na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constructor-″&lt;&lt;n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=n;name=nam; 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~Student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destructor-″&lt;&lt;num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get_data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 nam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tudent::get_data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f(num==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hrow n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um&lt;&lt;″ ″&lt;&lt;name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in get_data()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u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udent stud1(1101,″Tan″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1.get_data( );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d2(0,″Li″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2.get_data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main begin″&lt;&lt;endl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call fun( )″&lt;&lt;endl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fun( );  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tch(int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num=″&lt;&lt;n&lt;&lt;″,error!″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main end″&lt;&lt;endl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4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命名空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为什么需要命名空间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命名空间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NSI 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引入的可以由用户命名的作用域，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用来处理程序中常见的同名冲突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作用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文件、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函数、复合语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在不同的作用域中可以定义相同名字的变量，互不干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.4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字冲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解决方法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实体的名字写得长一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把名字起得特殊一些，包括一些特殊的字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由编译系统提供的内部全局标识符都用下划线作为前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由软件开发商提供的实体的名字用特定的字符作为前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命名空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14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 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C++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工具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什么是命名空间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所谓命名空间，实际上就是一个由程序设计者命名的内存区域。程序设计者可以根据需要指定一些有名字的空间域，把一些全局实体分别放在各个命名空间中，从而与其他全局实体分隔开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space ns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;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命名空间成员，通过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s1::a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s1::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引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b;   }   //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无分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命名空间的作用是建立一些互相分隔的作用域，把一些全局实体分隔开来，以免产生名字冲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命名空间成员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变量、常量、函数、结构体、类、模板、命名空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space ns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nst int RATE=0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pay;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tax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a*RATE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space ns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ge;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s1::RATE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s1::pay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s1::tax()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s1::ns2::age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28556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.5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命名空间来解决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.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名字冲突问题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//header1.h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namespace ns1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class Student 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Student(int n,string nam,int a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num=n;name=nam;age=a; 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void get_data( )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int num;  string name;  int age; }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void Student::get_data(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cout&lt;&lt;num&lt;&lt;″ ″&lt;&lt;name&lt;&lt;″ ″&lt;&lt;age&lt;&lt;endl; 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ouble fun(double a,double b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return sqrt(a+b); }  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//header2.h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         //</a:t>
            </a:r>
            <a:r>
              <a:rPr b="1" lang="zh-CN" sz="1600" spc="-1" strike="noStrike">
                <a:solidFill>
                  <a:srgbClr val="ff0000"/>
                </a:solidFill>
                <a:latin typeface="Verdana"/>
                <a:ea typeface="宋体"/>
              </a:rPr>
              <a:t>不要将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宋体"/>
              </a:rPr>
              <a:t>include</a:t>
            </a:r>
            <a:r>
              <a:rPr b="1" lang="zh-CN" sz="1600" spc="-1" strike="noStrike">
                <a:solidFill>
                  <a:srgbClr val="ff0000"/>
                </a:solidFill>
                <a:latin typeface="Verdana"/>
                <a:ea typeface="宋体"/>
              </a:rPr>
              <a:t>语句放到命名空间中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namespace ns2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class Student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Student(int n,string nam,char s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 num=n;name=nam;sex=s;  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void get_data( )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int num;   char name[20];   char sex;  }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void Student::get_data( 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num&lt;&lt;″ ″&lt;&lt;name&lt;&lt;″ ″&lt;&lt;sex&lt;&lt;endl;  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ouble fun(double a,double b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 return sqrt(a-b);  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68440" y="142056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//main file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include &lt;iostream&gt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#include ″header1.h″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include ″header2.h″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  ns1::Student stud1(101,″Wang″,18)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stud1.get_data( );     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s1::fun(5,3)&lt;&lt;endl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ns2::Student stud2(102,″Li″,′f′); 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stud2.get_data( )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s2::fun(5,3)&lt;&lt;endl;       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使用命名空间成员的方法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命名空间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::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命名空间成员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命名空间别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space TV = Television;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别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V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与原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levis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等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using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命名空间成员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次只能声明一个命名空间中的一个成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s1::Stude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d1(101,″Wang″,1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命名空间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次就能声明一个命名空间中的全部成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ns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无名的命名空间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space   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命名空间没有名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fun()  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定义命名空间成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cout&lt;&lt;″OK.″&lt;&lt;endl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只在本文件的作用域内有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程序中的其他文件中也无法使用该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标准命名空间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std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库中的所有（函数、类、对象和类模板）的标识符都是在一个名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命名空间中定义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d::cout&lt;&lt;″OK.″&lt;&lt;endl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定义和声明的所有标识符在本文件中作为全局变量来使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4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使用早期的函数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头文件的使用方法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言的传统方法，头文件名包括后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.h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不使用命名空间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新方法，头文件不包括后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.h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使用命名空间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所用的头文件名是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言的相应的头文件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不包括后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.h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之前加一字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传统方法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新方法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dio.h&gt;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stdio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math.h&gt;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.h&gt;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string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236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7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8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9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4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5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7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8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9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261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++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工具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首先由个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译系统增加的功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函数模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类模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异常处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命名空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行时类型识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已纳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SI 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4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异常处理的任务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程序中常见的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法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违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法规则的错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可由编译系统发现，容易纠正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关键字拼写错误、变量名未定义、语句末尾缺分号、括号不匹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行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能正常编译通过并执行，但在运行过程中会出现异常，得不到正确的运行结果，甚至导致程序不正常终止，或死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无法由编译系统发现，比较隐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计算结果不正确、内存空间不足、无法打开文件、输入数据类型有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异常处理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设计程序时，应当事先分析程序运行时可能出现的各种意外的情况，并且分别制订出相应的处理方法，这就是程序的异常处理的任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异常检测机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逐级向上抛出异常并进行处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检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tr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把需要检查的语句放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块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抛出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thr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来当出现异常时发出一个异常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捕捉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cat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则用来捕捉异常信息并进行处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异常处理语法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被检查的语句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被检查的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异常信息类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变量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进行异常处理的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9999ff"/>
              </a:buClr>
              <a:buSzPct val="60000"/>
              <a:buFont typeface="Verdana"/>
              <a:buChar char="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异常处理流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7164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首先把可能出现异常的、需要检查的语句或程序段放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面的花括号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执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内的语句过程中没有发生异常，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不起作用，流程转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后面的语句继续执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执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y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块内的语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括其所调用的函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程中发生异常，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ro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算符抛出一个异常信息，流程立即离开本函数，转到其上一级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系统寻找与之匹配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并执行异常处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进行异常处理后，程序并不会自动终止，继续执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后面的语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.1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给出三角形的三边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,b,c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三角形的面积。只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+b&gt;c,b+c&gt;a,c+a&gt;b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才能构成三角形。设置异常处理，对不符合三角形条件的输出警告信息，不予计算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double triangle(double,double,double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a,b,c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try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while(a&gt;0 &amp;&amp; b&gt;0 &amp;&amp; c&gt;0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cout&lt;&lt;triangle(a,b,c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double)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捕捉异常信息并作相应处理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a=″&lt;&lt;a&lt;&lt;″,b=″&lt;&lt;b&lt;&lt;″,c=″&lt;&lt;c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,that is not a triangle!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end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triangle(double a,double b,double c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double s=(a+b+c)/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a+b&lt;=c||b+c&lt;=a||c+a&lt;=b)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thro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a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sqrt(s*(s-a)*(s-b)*(s-c)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2-12-14T10:15:32Z</dcterms:modified>
  <cp:revision>975</cp:revision>
  <dc:subject/>
  <dc:title>PowerPoint Template</dc:title>
</cp:coreProperties>
</file>