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E8D5-1DB9-4C33-A0E6-4077A49E40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D325-6D52-4509-8A4B-3C5C12ABD114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678-3CFC-4198-B93A-B2FD8F3D78D0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275-A6B2-4315-8152-04B4F0B9193A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F60-9F0C-448D-8554-A20E7FC7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6D2-6A1D-4607-84A1-3A508356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041-AFCD-4B4D-9858-3D3677E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EC1-643B-4813-B5AE-3F9E1FAA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A77-13D4-4FF0-BF3E-7FD5B60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118-B383-4558-811B-9D67EEB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6ED-616E-48D1-BA7A-AFE1F09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CFE-2FDF-46A9-B834-6D748D6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5DD-D694-4BA1-BEFD-72EBCA9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EB5-FF28-4281-AB97-3933C44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7D6-1584-42D8-9029-DE501C7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88F-8A1C-40E4-9676-C8B3B1D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3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.Net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Gulim"/>
              </a:rPr>
              <a:t>程序设计基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349-F82A-4842-861B-3DC667407A66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1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Rectangle 33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8" name="Rectangle 34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9" name="Rectangle 35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0" name="Group 36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Freeform 37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2" name="Freeform 38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3" name="Group 39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40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Freeform 41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Freeform 42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Freeform 43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Freeform 44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433080" y="2602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NEUQ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程序设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8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楷体"/>
              </a:rPr>
              <a:t>李国瑞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lgr@neuq.edu.cn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计算机语言排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4094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a3c8"/>
                </a:solidFill>
                <a:latin typeface="Verdana"/>
              </a:rPr>
              <a:t>TIOBE </a:t>
            </a:r>
            <a:r>
              <a:rPr b="1" lang="zh-CN" sz="2000" spc="-1" strike="noStrike">
                <a:solidFill>
                  <a:srgbClr val="2ca3c8"/>
                </a:solidFill>
                <a:latin typeface="Verdana"/>
              </a:rPr>
              <a:t>编程语言排行榜（</a:t>
            </a:r>
            <a:r>
              <a:rPr b="1" lang="en-US" sz="2000" spc="-1" strike="noStrike">
                <a:solidFill>
                  <a:srgbClr val="2ca3c8"/>
                </a:solidFill>
                <a:latin typeface="Verdana"/>
              </a:rPr>
              <a:t>2024</a:t>
            </a:r>
            <a:r>
              <a:rPr b="1" lang="zh-CN" sz="2000" spc="-1" strike="noStrike">
                <a:solidFill>
                  <a:srgbClr val="2ca3c8"/>
                </a:solidFill>
                <a:latin typeface="Verdana"/>
              </a:rPr>
              <a:t>年</a:t>
            </a:r>
            <a:r>
              <a:rPr b="1" lang="en-US" sz="2000" spc="-1" strike="noStrike">
                <a:solidFill>
                  <a:srgbClr val="2ca3c8"/>
                </a:solidFill>
                <a:latin typeface="Verdana"/>
              </a:rPr>
              <a:t>9</a:t>
            </a:r>
            <a:r>
              <a:rPr b="1" lang="zh-CN" sz="2000" spc="-1" strike="noStrike">
                <a:solidFill>
                  <a:srgbClr val="2ca3c8"/>
                </a:solidFill>
                <a:latin typeface="Verdana"/>
              </a:rPr>
              <a:t>月）</a:t>
            </a:r>
            <a:r>
              <a:rPr b="1" lang="en-US" sz="1400" spc="-1" strike="noStrike">
                <a:solidFill>
                  <a:srgbClr val="2ca3c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2ca3c8"/>
                </a:solidFill>
                <a:latin typeface="Verdana"/>
              </a:rPr>
              <a:t>TIOBE Index - TIOBE</a:t>
            </a:r>
            <a:endParaRPr b="1" lang="en-US" sz="1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OBE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编程社区指数是一个衡量编程语言受欢迎程度的指标，评判的依据来自世界范围内的工程师、课程、供应商及搜索引擎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a3c8"/>
                </a:solidFill>
                <a:latin typeface="Times New Roman"/>
                <a:ea typeface="Times New Roman"/>
              </a:rPr>
              <a:t>https://www.tiobe.com/tiobe-index/</a:t>
            </a:r>
            <a:endParaRPr b="1" lang="en-US" sz="12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a3c8"/>
              </a:solidFill>
              <a:latin typeface="Verdana"/>
            </a:endParaRPr>
          </a:p>
        </p:txBody>
      </p:sp>
      <p:pic>
        <p:nvPicPr>
          <p:cNvPr id="153" name="图片 1" descr=""/>
          <p:cNvPicPr/>
          <p:nvPr/>
        </p:nvPicPr>
        <p:blipFill>
          <a:blip r:embed="rId1"/>
          <a:stretch/>
        </p:blipFill>
        <p:spPr>
          <a:xfrm>
            <a:off x="0" y="2330280"/>
            <a:ext cx="9144000" cy="44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前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2560" y="1285560"/>
            <a:ext cx="900108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4478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怎样学习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/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程序设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理解算法和程序语言之间的关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着眼于培养分析问题、构造算法、编程、调试能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把重点放在解题的思路上，不要在语法细节上死背死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切忌滥用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/C++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语言中某些容易引起错误的细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掌握基本要求，注意打好基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十分重视实践环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spcBef>
                <a:spcPts val="9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动手编程，上机调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举一反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倡和培养创新精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课程设计时完成一个具有一定规模的程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55640" y="227664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Verdana"/>
              </a:rPr>
              <a:t>第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</a:rPr>
              <a:t>章 </a:t>
            </a:r>
            <a:r>
              <a:rPr b="1" lang="en-US" sz="3600" spc="-1" strike="noStrike">
                <a:solidFill>
                  <a:srgbClr val="1d528d"/>
                </a:solidFill>
                <a:latin typeface="Verdana"/>
              </a:rPr>
              <a:t>C++</a:t>
            </a:r>
            <a:r>
              <a:rPr b="1" lang="zh-CN" sz="3600" spc="-1" strike="noStrike">
                <a:solidFill>
                  <a:srgbClr val="1d528d"/>
                </a:solidFill>
                <a:latin typeface="Verdana"/>
              </a:rPr>
              <a:t>的初步知识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1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程序语言的发展历史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：一组计算机系统能识别和执行的指令，每一条指令使计算机执行特定的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低级语言：机器语言、汇编语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级语言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ORTRAN (1954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科学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ASIC(1964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语法简单、功能丰富、容易掌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(1972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功能丰富、灵活方便、应用面广、效率高、移植性好、适合编写系统软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(1980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基础上引入了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OO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 2.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89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增加了多继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 3.0 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增加了模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4.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增加了异常处理、命名空间、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RT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ANSI /ISO C++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准（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98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 98/02/11/14/17/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图片 2" descr=""/>
          <p:cNvPicPr/>
          <p:nvPr/>
        </p:nvPicPr>
        <p:blipFill>
          <a:blip r:embed="rId1"/>
          <a:stretch/>
        </p:blipFill>
        <p:spPr>
          <a:xfrm>
            <a:off x="30240" y="357336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"/>
          <p:cNvPicPr/>
          <p:nvPr/>
        </p:nvPicPr>
        <p:blipFill>
          <a:blip r:embed="rId2"/>
          <a:stretch/>
        </p:blipFill>
        <p:spPr>
          <a:xfrm>
            <a:off x="304920" y="5040360"/>
            <a:ext cx="10922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Gulim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Gulim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最简单的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04920" y="1413000"/>
            <a:ext cx="838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.1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出一行字符：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s is a C++ progra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 &lt;iostream&gt;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包含头文件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ostream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namespace std;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使用命名空间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d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main( )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t&lt;&lt;″This is a C++ program.″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在运行时会在屏幕上输出以下一行信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s is a C++ progra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6828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.2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两个数之和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求两数之和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本行是注释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 &lt;iostream&gt;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预处理命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namespace std;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使用命名空间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d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main( )   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主函数首部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{                   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体开始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a,b,sum;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定义变量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n&gt;&gt;a&gt;&gt;b;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入语句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=a+b;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赋值语句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t&lt;&lt;″a+b=″&lt;&lt;sum&lt;&lt;endl;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出语句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0;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如程序正常结束，向操作系统返回一个零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}         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结束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.3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给两个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求两数中的大者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 &lt;iostream&gt;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预处理命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max(int x,int y)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{                        /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体开始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z;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变量声明，定义本函数中用到的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整型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(x&gt;y)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=x;        //if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语句，如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&gt;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则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赋给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=y;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否则，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赋给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(z);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返回，通过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带回调用处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}                       /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结束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main( )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主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{              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主函数体开始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a,b,m;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变量声明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n&gt;&gt;a&gt;&gt;b;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入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=max(a,b);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调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，将得到的值赋给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t&lt;&lt;″max=″&lt;&lt;m&lt;&lt;′\\n′;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出大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0;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如程序正常结束，向操作系统返回一个零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}                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主函数结束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  <a:ea typeface="Gulim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Verdana"/>
                <a:ea typeface="Gulim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.4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包含类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程序。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 &lt;iostream&gt;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预处理命令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ass Student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声明一个类，类名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private:     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以下为类中的私有部分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num;  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私有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core;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私有变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:     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以下为类中的公用部分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setdata( )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定义公用函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tdata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cin&gt;&gt;num;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n&gt;&gt;score;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}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ore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display( )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定义公用函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play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cout&lt;&lt;″num=″&lt;&lt;num&lt;&lt;endl;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t&lt;&lt;″score=″&lt;&lt;score&lt;&lt;endl;} 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输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ore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值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12120" indent="-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             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类的声明结束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7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类的变量，称为对象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 stud1,stud2; 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main( )                    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主函数首部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1.setdata( );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调用对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tdat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2.setdata( );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调用对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tdat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1.display( );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调用对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play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2.display( );       //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调用对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play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函数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  <a:p>
            <a:pPr marL="343080" indent="-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1" lang="en-US" sz="20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7840" y="1371600"/>
            <a:ext cx="82389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个人简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5.09-2009.07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北京工业大学计算机应用技术专业 工学博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.07-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东北大学秦皇岛分校  计算机工程系主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副教授 博士生导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15.07-2016.01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美国弗吉尼亚理工学院暨州立大学 访问学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讲授课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程序设计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、可视化程序设计、信息安全、并行计算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研究方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机器学习、深度学习、物联网、优化理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物联网技术实验室：综合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3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办公室：综合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thub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主页   研究生院   计工学院   东秦小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3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程序的构成和书写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可以由一个程序单位或多个程序单位构成。每一个程序单位作为一个文件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一个程序单位中，可以包括以下几个部分：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预处理命令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局声明部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函数外的声明部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③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函数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函数由两部分组成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函数首部，即函数的第一行。包括函数名、函数类型、函数属性、函数参数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形参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、参数类型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函数体，即函数首部下面的大括号内的部分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局部声明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执行部分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语句包括两类。一类是声明语句，另一类是执行语句。 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语句必须以分号结束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总是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main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函数开始执行的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而不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ai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函数在整个程序中的位置如何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6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class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增加的重要的数据类型，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重要的发展。在一个类中可以包括数据成员和成员函数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7)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程序书写格式自由，一行内可以写几个语句， 一个语句可以分写在多行上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8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好的、有使用价值的源程序都应当加上必要的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注释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以增加程序的可读性。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                          /*    */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8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4 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程序的编写和实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++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语言编写程序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源程序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.cpp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源程序进行编译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标程序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.obj/.o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目标文件连接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执行的二进制文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.exe)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运行程序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析运行结果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1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92" name="Picture 3" descr="F:\C++程序设计\tu\tu\CJ1.tif"/>
          <p:cNvPicPr/>
          <p:nvPr/>
        </p:nvPicPr>
        <p:blipFill>
          <a:blip r:embed="rId1"/>
          <a:stretch/>
        </p:blipFill>
        <p:spPr>
          <a:xfrm>
            <a:off x="5292720" y="1268280"/>
            <a:ext cx="3144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5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关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上机实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371600"/>
            <a:ext cx="88567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多编程、多上机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衡量程序学习好坏的标准不是“懂不懂”，而是“会不会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标准化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应当掌握的是标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而不应该只了解某一种“方言化”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不应当只会使用一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编译系统，只能在一种环境下工作，而应当能在不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环境下运行自己的程序，并且了解不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编译系统的特点和使用方法，在需要时能将自己的程序方便地移植到不同的平台上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97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你对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++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程序设计感兴趣吗？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98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特别感兴趣！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99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一般般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不感兴趣！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无所谓啦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2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3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4" name="椭圆 13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5" name="椭圆 14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6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07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08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0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投票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1" name="TipText"/>
            <p:cNvSpPr/>
            <p:nvPr/>
          </p:nvSpPr>
          <p:spPr>
            <a:xfrm>
              <a:off x="119556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最多可选</a:t>
              </a: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项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212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215" name="AutoShape 5"/>
            <p:cNvSpPr/>
            <p:nvPr/>
          </p:nvSpPr>
          <p:spPr>
            <a:xfrm>
              <a:off x="5003640" y="2354760"/>
              <a:ext cx="3745080" cy="3764520"/>
            </a:xfrm>
            <a:custGeom>
              <a:avLst/>
              <a:gdLst>
                <a:gd name="textAreaLeft" fmla="*/ 548640 w 3745080"/>
                <a:gd name="textAreaRight" fmla="*/ 3196440 w 3745080"/>
                <a:gd name="textAreaTop" fmla="*/ 551160 h 3764520"/>
                <a:gd name="textAreaBottom" fmla="*/ 3213360 h 37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563080" y="5423400"/>
              <a:ext cx="447120" cy="342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6202080" y="3521520"/>
              <a:ext cx="577800" cy="26438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6701040" y="3476880"/>
              <a:ext cx="590040" cy="25747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7041240" y="3276000"/>
              <a:ext cx="825120" cy="26636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7910640" y="355932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5553720" y="4203000"/>
              <a:ext cx="788040" cy="18093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7112520" y="2890440"/>
              <a:ext cx="693000" cy="114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6468840" y="238428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5732640" y="3535560"/>
              <a:ext cx="2320920" cy="85140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5153400" y="3729240"/>
              <a:ext cx="3544200" cy="1541160"/>
            </a:xfrm>
            <a:custGeom>
              <a:avLst/>
              <a:gdLst>
                <a:gd name="textAreaLeft" fmla="*/ 0 w 3544200"/>
                <a:gd name="textAreaRight" fmla="*/ 3544560 w 354420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5944680" y="4891680"/>
              <a:ext cx="2697840" cy="99036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6941880" y="2628000"/>
              <a:ext cx="1751400" cy="142632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7230960" y="263916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6728760" y="2566440"/>
              <a:ext cx="620280" cy="48816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6831720" y="244728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003640" y="2457000"/>
              <a:ext cx="2008440" cy="25106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10640"/>
                <a:gd name="textAreaBottom" fmla="*/ 2511000 h 25106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6321240" y="568008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6192360" y="556380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5216400" y="499716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5395320" y="4883400"/>
              <a:ext cx="109800" cy="368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5560560" y="459324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39" name="AutoShape 29"/>
            <p:cNvSpPr/>
            <p:nvPr/>
          </p:nvSpPr>
          <p:spPr>
            <a:xfrm rot="10800000">
              <a:off x="6065280" y="268560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240" name="Rectangle 30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  <a:ea typeface="Gulim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  <a:ea typeface="Gulim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课程简介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基本知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基于过程的程序设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基于对象的程序设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面向对象的程序设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13" name="Picture 8" descr="C:\Documents and Settings\DELL\Application Data\Tencent\Users\112063574\QQ\WinTemp\RichOle\{8_0J85}7]O@BHJOO83K(LY.jpg"/>
          <p:cNvPicPr/>
          <p:nvPr/>
        </p:nvPicPr>
        <p:blipFill>
          <a:blip r:embed="rId1"/>
          <a:stretch/>
        </p:blipFill>
        <p:spPr>
          <a:xfrm>
            <a:off x="4356000" y="2205000"/>
            <a:ext cx="209088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:\Documents and Settings\DELL\Application Data\Tencent\Users\112063574\QQ\WinTemp\RichOle\HD`$85W[EM[91B1IEW_O3YC.jpg"/>
          <p:cNvPicPr/>
          <p:nvPr/>
        </p:nvPicPr>
        <p:blipFill>
          <a:blip r:embed="rId2"/>
          <a:stretch/>
        </p:blipFill>
        <p:spPr>
          <a:xfrm>
            <a:off x="6588000" y="2205000"/>
            <a:ext cx="2049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课程安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5788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理论课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课时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学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周：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17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物联网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通信：周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~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周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~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12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悉尼计科：    周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~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周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~1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1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软件：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Fr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DevC++/CodeBlock/VC++/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S C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QT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实验课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课时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学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物联网：      戴庆天老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通信：         戴庆天老师、张强老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悉尼计科：   吕艳霞老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课件下载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邮箱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qiot@163.c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密码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q_i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我的联系方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70335754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gr@neuq.edu.c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综合实验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3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考核方式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必修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平时成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验成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期末考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507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平时作业（希冀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校内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172.16.71.200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校外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P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登录后选择“计算机与通讯工程学院一体化教学平台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92160" y="3429000"/>
            <a:ext cx="89596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914400" y="6350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是否熟悉程序设计？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6" name="文本框 7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根本没听说过！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7" name="文本框 8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了解一些基本概念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自学过一些基础编程知识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熟悉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精通一种及以上编程语言。</a:t>
            </a:r>
            <a:endParaRPr b="0" lang="en-US" sz="2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0" name="椭圆 11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1" name="椭圆 12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2" name="椭圆 13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3" name="椭圆 14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4" name="矩形: 圆角 15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135" name="组合 20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3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投票</a:t>
              </a:r>
              <a:endParaRPr b="0" lang="en-US" sz="26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9" name="TipText"/>
            <p:cNvSpPr/>
            <p:nvPr/>
          </p:nvSpPr>
          <p:spPr>
            <a:xfrm>
              <a:off x="119556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最多可选</a:t>
              </a: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项</a:t>
              </a:r>
              <a:endParaRPr b="0" lang="en-US" sz="20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前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5840" y="1371600"/>
            <a:ext cx="85723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为什么要学习程序设计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大学生不能满足于只会用办公软件，尤其是理工科学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学习程序设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以进一步了解计算机的工作原理，更好的理解和应用计算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掌握用计算机处理问题的方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培养分析问题和解决问题的能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具有编制程序的初步能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方便与程序开发人员更好的沟通与合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课程、课设、竞赛、毕业设计、考研、工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6948360" y="42861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800360" cy="9320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" descr=""/>
          <p:cNvPicPr/>
          <p:nvPr/>
        </p:nvPicPr>
        <p:blipFill>
          <a:blip r:embed="rId3"/>
          <a:stretch/>
        </p:blipFill>
        <p:spPr>
          <a:xfrm>
            <a:off x="2641680" y="0"/>
            <a:ext cx="386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前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840" y="1285560"/>
            <a:ext cx="857232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为什么选择</a:t>
            </a: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/C++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</a:rPr>
              <a:t>语言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/C+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功能丰富、表达能力强、使用灵活方便、应用面广、目标程序效率高、可移植性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同时具有高级语言与低级语言的特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即适合编写系统软件，又方便编写应用软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后续课程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数据结构、操作系统、算法、可视化程序设计、网络高级编程技术、移动终端程序设计、机器学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单片机技术及应用、 嵌入式系统与应用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PGA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原理与应用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技术及应用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I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原理及技术、无线传感器网络、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lab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与通信系统分析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页脚占位符 3"/>
          <p:cNvSpPr/>
          <p:nvPr/>
        </p:nvSpPr>
        <p:spPr>
          <a:xfrm>
            <a:off x="5943600" y="6508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C++</a:t>
            </a:r>
            <a:r>
              <a:rPr b="1" lang="zh-CN" sz="1200" spc="-1" strike="noStrike">
                <a:solidFill>
                  <a:srgbClr val="1d528d"/>
                </a:solidFill>
                <a:latin typeface="Times New Roman"/>
                <a:ea typeface="黑体"/>
              </a:rPr>
              <a:t>程序设计</a:t>
            </a: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44:19Z</dcterms:created>
  <dc:creator>Guorui Li</dc:creator>
  <dc:description/>
  <dc:language>en-US</dc:language>
  <cp:lastModifiedBy>GuoruiLi</cp:lastModifiedBy>
  <dcterms:modified xsi:type="dcterms:W3CDTF">2024-09-28T07:45:17Z</dcterms:modified>
  <cp:revision>777</cp:revision>
  <dc:subject/>
  <dc:title>PowerPoint Template</dc:title>
</cp:coreProperties>
</file>