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834E-7057-426D-BB48-10642EC7392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&lt;&lt; ends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相当于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&lt;&lt; '\0'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&lt;&lt; endl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相当于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&lt;&lt; '\n' &lt;&lt; flus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ends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函数 终止字符串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endl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函数 终止一行并刷新缓冲区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#include &lt;iostream&gt; 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int main()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{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using namespace std;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out &lt;&lt; "a" ;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out &lt;&lt; "b" &lt;&lt;ends;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out &lt;&lt; "c" &lt;&lt;endl;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out &lt;&lt; "e" &lt;&lt; flush;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out &lt;&lt; "f" &lt;&lt; flush;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out &lt;&lt; "g" ;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out &lt;&lt; "h" &lt;&lt;ends;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out &lt;&lt; "i" &lt;&lt; flush;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out &lt;&lt; "j" &lt;&lt;endl;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return 0;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} </a:t>
            </a:r>
            <a:br>
              <a:rPr sz="1100"/>
            </a:br>
            <a:br>
              <a:rPr sz="1100"/>
            </a:b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结果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ab c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efgh ij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A917-C62A-4D12-8016-215555CAB222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当输出的数据类型为浮点型时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tprecision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表示设置输出数的有效位数，当输出的是定点数或用科学计数法表示的数时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tprecison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表示设置输出数小数点后的位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4FB2-4D9A-41BB-B6C7-3F8612DAE84F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8EFA-1788-4056-BF88-CC0846D02C9A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C3FA-3F38-4419-8690-452F108FA668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761B-2804-4AF6-A85B-F908B050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662-732D-4C84-9249-38B698E5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C46-08D9-4E38-BB95-60B46A4F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F50-08CB-47A9-BB9E-728EC515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B9B-2F06-40CC-B23F-BDA13351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404C-ACBD-48AA-99DF-E1653D1D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0A03-9391-4EB2-9FF8-DAAC2610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0196-094F-4CF8-8879-376A3B99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ECC5-7DB0-4C19-8B49-D722D048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1ABE-82E6-46DD-85B6-6E9F6879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D1E-5EF3-4F69-81D2-2A435F5D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99CF-10CF-4F78-90C4-C1550817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85B6-E183-423A-BCEE-282C6939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44E0-87EE-4467-A2FA-D9FC42EC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C600-D5B0-4901-9C8C-A7A66F7B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6FED-1B5E-4DC9-96A7-EF05BB25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7C14-208B-4333-B3D0-A077EC7F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06B8-6241-4B59-9D89-FF3AE883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64D-637E-4991-A1A4-5829EC6E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C7CD-75E7-4B29-8926-7CFB3FF1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868-CA4C-4B42-A050-C7539A68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BBC-24A5-4031-B041-68F40ECB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C28-3CD9-4E81-B521-169ADB00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DD2-AB89-4538-89E6-F61C78B1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배너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" name="Freeform 35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Line 3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516360" y="-36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7F8C-888F-4D74-B590-3FE34DCE521B}" type="slidenum">
              <a:rPr b="1" lang="ko-KR" sz="14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1" descr="SW이미지_2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2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7" name="Rectangle 33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8" name="Rectangle 34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9" name="Rectangle 35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50" name="Group 36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1" name="Freeform 37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2" name="Freeform 38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53" name="Group 39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4" name="AutoShape 40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5" name="Freeform 41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6" name="Freeform 42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7" name="Freeform 43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8" name="Freeform 44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59" name="Text Box 29"/>
          <p:cNvSpPr/>
          <p:nvPr/>
        </p:nvSpPr>
        <p:spPr>
          <a:xfrm>
            <a:off x="429120" y="26028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NEUQ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3" descr="배너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0" name="Freeform 35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516360" y="-36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d528d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1d528d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56A5-528A-430E-B9CE-067DDF436324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shangyexinzhi.com/article/216789.html" TargetMode="External"/><Relationship Id="rId2" Type="http://schemas.openxmlformats.org/officeDocument/2006/relationships/hyperlink" Target="https://www.shangyexinzhi.com/article/216789.html" TargetMode="External"/><Relationship Id="rId3" Type="http://schemas.openxmlformats.org/officeDocument/2006/relationships/hyperlink" Target="https://www.shangyexinzhi.com/article/216789.html" TargetMode="External"/><Relationship Id="rId4" Type="http://schemas.openxmlformats.org/officeDocument/2006/relationships/hyperlink" Target="https://www.bilibili.com/video/av243405187/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C++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굴림"/>
              </a:rPr>
              <a:t>程序设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03280" y="5127480"/>
            <a:ext cx="640872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华文楷体"/>
              </a:rPr>
              <a:t>李国瑞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lgr@mail.neuq.edu.cn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79" name="Picture 3" descr="F:\C++程序设计\tu\tu\图3.2.tif"/>
          <p:cNvPicPr/>
          <p:nvPr/>
        </p:nvPicPr>
        <p:blipFill>
          <a:blip r:embed="rId1"/>
          <a:stretch/>
        </p:blipFill>
        <p:spPr>
          <a:xfrm>
            <a:off x="571680" y="1571760"/>
            <a:ext cx="7924680" cy="2503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:\C++程序设计\tu\tu\图3.3.tif"/>
          <p:cNvPicPr/>
          <p:nvPr/>
        </p:nvPicPr>
        <p:blipFill>
          <a:blip r:embed="rId2"/>
          <a:stretch/>
        </p:blipFill>
        <p:spPr>
          <a:xfrm>
            <a:off x="500040" y="4786200"/>
            <a:ext cx="821520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输入流与输出流的基本操作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cout&lt;&lt;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表达式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1&lt;&lt;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表达式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2&lt;&lt;……&lt;&lt;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表达式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cin&gt;&gt;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变量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1&gt;&gt;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变量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2&gt;&gt;……&gt;&gt;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变量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定义流对象时，系统会在内存中开辟一段缓冲区，用来暂存输入输出流的数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执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时，先把插入的数据顺序存放在输出缓冲区中，直到输出缓冲区满或遇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中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endl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\n′,ends,flush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止，此时将缓冲区中已有的数据一起输出，并清空缓冲区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cou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可以分写成若干行，也可写成多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his is a simple C++ program.″&lt;&lt;end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his is ″  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注意行末尾无分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&lt;&lt;″a C++ 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&lt;&lt;″program.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&lt;&lt;endl;             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句最后有分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his is ″; 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句末尾有分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 &lt;&lt;″a C++ 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 &lt;&lt;″program.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end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cou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户不必通知计算机按何种类型输出，系统会自动判别输出数据的类型，使输出的数据按相应的类型输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已定义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loa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，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t&lt;&lt;a&lt;&lt;′ ′&lt;&lt;b&lt;&lt;′ ′&lt;&lt;c&lt;&lt;endl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以下面的形式输出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 345.789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cin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i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可以分写成若干行，也可写成多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i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in&gt;&gt;a&gt;&gt;b&gt;&gt;c&gt;&gt;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in&gt;&gt;a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行末尾无分号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&gt;b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这样写可能看起来清晰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&gt;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&gt;d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宋体"/>
              </a:rPr>
              <a:t>cin&gt;&gt;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宋体"/>
              </a:rPr>
              <a:t>cin&gt;&gt;b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宋体"/>
              </a:rPr>
              <a:t>cin&gt;&gt;c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宋体"/>
              </a:rPr>
              <a:t>cin&gt;&gt;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cin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i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输入时，系统也会根据变量的类型从输入流中提取相应长度的字节。如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har c1,c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loat b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in&gt;&gt;c1&gt;&gt;c2&gt;&gt;a&gt;&gt;b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输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34 56.78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则相当于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 2 34 56.78↙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5840" y="1371600"/>
            <a:ext cx="857232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在输入流与输出流中使用控制符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iostream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ioman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double a=123.456789012345;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赋初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1) cout&lt;&lt;a;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输出：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3.456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2) cout&lt;&lt;setprecision(9)&lt;&lt;a;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输出：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3.456789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3) cout&lt;&lt;setprecision(6);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恢复默认格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度为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4) cout&lt;&lt; setiosflags(ios∷fixed);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输出：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3.45678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5) cout&lt;&lt;setiosflags(ios∷fixed)&lt;&lt;setprecision(8)&lt;&lt;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输出：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3.456789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6) cout&lt;&lt;setiosflags(ios∷scientific)&lt;&lt;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输出：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.234568e+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7) cout&lt;&lt;setiosflags(ios∷scientific)&lt;&lt;setprecision(4)&lt;&lt;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输出：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.2346e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b=123456;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赋初值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1) cout&lt;&lt;b;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输出：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3456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2) cout&lt;&lt;hex&lt;&lt;b;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输出：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e240     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3) cout&lt;&lt;setiosflags(ios∷uppercase)&lt;&lt;b;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输出：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E240     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4) cout&lt;&lt;setw(10)&lt;&lt;b&lt;&lt;′,′&lt;&lt;b;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输出：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3456,123456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5) cout&lt;&lt;setfill(′*′)&lt;&lt;setw(10)&lt;&lt;b;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输出：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****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3456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6) cout&lt;&lt;setiosflags(ios∷showpos)&lt;&lt;b;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输出：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123456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732168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371600"/>
            <a:ext cx="8472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例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3.1 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各行小数点对齐。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manip&gt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 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double a=123.456,b=3.14159,c=-3214.67;   cout&lt;&lt;setiosflags(ios∷fixed)&lt;&lt;setiosflags(ios∷right)&lt;&lt;setprecision(2)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setw(10)&lt;&lt;a&lt;&lt;endl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setw(10)&lt;&lt;b&lt;&lt;endl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setw(10)&lt;&lt;c&lt;&lt;endl; 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} 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55640" y="2276640"/>
            <a:ext cx="77724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528d"/>
                </a:solidFill>
                <a:latin typeface="Verdana"/>
                <a:ea typeface="宋体"/>
              </a:rPr>
              <a:t>第</a:t>
            </a:r>
            <a:r>
              <a:rPr b="1" lang="en-US" sz="3600" spc="-1" strike="noStrike">
                <a:solidFill>
                  <a:srgbClr val="1d528d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1d528d"/>
                </a:solidFill>
                <a:latin typeface="Verdana"/>
                <a:ea typeface="宋体"/>
              </a:rPr>
              <a:t>章  程序设计初步</a:t>
            </a:r>
            <a:endParaRPr b="0" lang="en-US" sz="36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putchar 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向终端输出一个字符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也可以输出其他转义字符。 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putchar(c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2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输出单个字符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char a,b,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=′B′;b=′O′;c=′Y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utchar(a);putchar(b);putchar(c);putchar(′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utchar(66);putchar(79);putchar(89);putchar(1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return 0;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getchar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函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从终端（或系统隐含指定的输入设备）输入一个字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getchar()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函数的值就是从输入设备得到的字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3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输入单个字符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{char c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=getchar( ); putchar(c+32); putchar(′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′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42920" y="1371600"/>
            <a:ext cx="87868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用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scanf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printf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函数进行输入和输出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scanf(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格式控制，输出表列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printf(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格式控制，输出表列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4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canf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rintf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函数进行输入和输出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int a; float b; char 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canf(″%d %c %f″,&amp;a,&amp;c,&amp;b);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注意在变量名前要加地址运算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rintf(″a=%d,b=%f,c=%c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″,a,b,c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0" y="179280"/>
            <a:ext cx="9144000" cy="64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.5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编写顺序结构的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例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3.5 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求一元二次方程式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ax</a:t>
            </a:r>
            <a:r>
              <a:rPr b="1" lang="en-US" sz="2800" spc="-1" strike="noStrike" baseline="30000">
                <a:solidFill>
                  <a:srgbClr val="2ca3c8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+bx+c=0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的根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cmath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float  a,b,c,x1,x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in&gt;&gt;a&gt;&gt;b&gt;&gt;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1=(-b+sqrt(b*b-4*a*c))/(2*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2=(-b-sqrt(b*b-4*a*c))/(2*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x1=″&lt;&lt;x1&lt;&lt;end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x2=″&lt;&lt;x2&lt;&lt;end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.6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系运算和逻辑运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关系运算和关系表达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&lt;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②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&lt;=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于或等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优先级相同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&gt;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④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&gt;=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于或等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⑤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==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等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⑥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=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不等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优先级相同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算术运算符       高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关系运算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赋值运算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逗号运算符       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4286160" y="1928880"/>
            <a:ext cx="285840" cy="1357200"/>
          </a:xfrm>
          <a:custGeom>
            <a:avLst/>
            <a:gdLst>
              <a:gd name="textAreaLeft" fmla="*/ 0 w 285840"/>
              <a:gd name="textAreaRight" fmla="*/ 103320 w 285840"/>
              <a:gd name="textAreaTop" fmla="*/ 78120 h 1357200"/>
              <a:gd name="textAreaBottom" fmla="*/ 1279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90"/>
                  <a:pt x="10800" y="3979"/>
                </a:cubicBezTo>
                <a:lnTo>
                  <a:pt x="10800" y="6821"/>
                </a:lnTo>
                <a:cubicBezTo>
                  <a:pt x="10800" y="8811"/>
                  <a:pt x="16200" y="10800"/>
                  <a:pt x="21600" y="10800"/>
                </a:cubicBezTo>
                <a:cubicBezTo>
                  <a:pt x="16200" y="10800"/>
                  <a:pt x="10800" y="12790"/>
                  <a:pt x="10800" y="14779"/>
                </a:cubicBezTo>
                <a:lnTo>
                  <a:pt x="10800" y="17621"/>
                </a:lnTo>
                <a:cubicBezTo>
                  <a:pt x="10800" y="1961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4357800" y="3429000"/>
            <a:ext cx="214200" cy="571680"/>
          </a:xfrm>
          <a:custGeom>
            <a:avLst/>
            <a:gdLst>
              <a:gd name="textAreaLeft" fmla="*/ 0 w 214200"/>
              <a:gd name="textAreaRight" fmla="*/ 77400 w 214200"/>
              <a:gd name="textAreaTop" fmla="*/ 18360 h 571680"/>
              <a:gd name="textAreaBottom" fmla="*/ 5533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25"/>
                  <a:pt x="10800" y="2250"/>
                </a:cubicBezTo>
                <a:lnTo>
                  <a:pt x="10800" y="8550"/>
                </a:lnTo>
                <a:cubicBezTo>
                  <a:pt x="10800" y="9675"/>
                  <a:pt x="16200" y="10800"/>
                  <a:pt x="21600" y="10800"/>
                </a:cubicBezTo>
                <a:cubicBezTo>
                  <a:pt x="16200" y="10800"/>
                  <a:pt x="10800" y="11925"/>
                  <a:pt x="10800" y="13050"/>
                </a:cubicBezTo>
                <a:lnTo>
                  <a:pt x="10800" y="19350"/>
                </a:lnTo>
                <a:cubicBezTo>
                  <a:pt x="10800" y="204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29" name="AutoShape 5"/>
          <p:cNvSpPr/>
          <p:nvPr/>
        </p:nvSpPr>
        <p:spPr>
          <a:xfrm flipV="1">
            <a:off x="2857680" y="4500720"/>
            <a:ext cx="214200" cy="1428480"/>
          </a:xfrm>
          <a:prstGeom prst="upArrow">
            <a:avLst>
              <a:gd name="adj1" fmla="val 50000"/>
              <a:gd name="adj2" fmla="val 208527"/>
            </a:avLst>
          </a:prstGeom>
          <a:solidFill>
            <a:srgbClr val="ffff00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4143240" y="4500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c&gt;a+b           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等效于 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c&gt;(a+b)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a&gt;b==c         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等效于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(a&gt;b)==c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a==b&lt;c         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等效于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a==(b&lt;c)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a=b&gt;c           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等效于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a=(b&gt;c)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关系表达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关系运算符将两个表达式连接起来的式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表达式  关系运算符 表达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关系表达式的值是一个逻辑值，即“真”或“假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都用数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代表“真”，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代表“假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宋体"/>
              </a:rPr>
              <a:t>a&gt;b, a+b&gt;b+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宋体"/>
              </a:rPr>
              <a:t>(a==3)&gt;(b==5), ′a′&lt;′b′, (a&gt;b)&gt;(b&lt;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逻辑常量和逻辑变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逻辑型变量要用类型标识符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boo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来定义，它的值只能是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之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ool found=true,flag=fals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立逻辑类型的目的是为了看程序时直观易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编译系统处理逻辑型数据时，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因此，逻辑型数据可以与数值型数据进行算术运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将一个非零的整数赋给逻辑型变量，则按“真”处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lag=123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逻辑运算和逻辑表达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1) &amp;&amp;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逻辑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2) ||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逻辑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3) !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逻辑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40" name="Picture 1" descr="C:\Users\Guorui\AppData\Roaming\Tencent\Users\112063574\QQ\WinTemp\RichOle\K]HCS~{BC$O_}]}A(1I$THH.jpg"/>
          <p:cNvPicPr/>
          <p:nvPr/>
        </p:nvPicPr>
        <p:blipFill>
          <a:blip r:embed="rId1"/>
          <a:stretch/>
        </p:blipFill>
        <p:spPr>
          <a:xfrm>
            <a:off x="428760" y="3571920"/>
            <a:ext cx="842940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逻辑运算优先级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!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 → &amp;&amp; 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 → ||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a&gt;b) &amp;&amp; (x&gt;y)   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写成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&gt;b &amp;&amp; x&gt;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a==b) || (x==y)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写成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==b || x==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!a) || (a&gt;b)       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写成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!a || a&gt;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44" name="矩形 4"/>
          <p:cNvSpPr/>
          <p:nvPr/>
        </p:nvSpPr>
        <p:spPr>
          <a:xfrm>
            <a:off x="785880" y="2357280"/>
            <a:ext cx="3214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!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非 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高  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算术运算符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关系运算符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&amp;&amp;  ||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赋值运算符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逗号运算符  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低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45" name="AutoShape 4"/>
          <p:cNvSpPr/>
          <p:nvPr/>
        </p:nvSpPr>
        <p:spPr>
          <a:xfrm flipV="1">
            <a:off x="3857760" y="2714760"/>
            <a:ext cx="155520" cy="1620720"/>
          </a:xfrm>
          <a:prstGeom prst="upArrow">
            <a:avLst>
              <a:gd name="adj1" fmla="val 50000"/>
              <a:gd name="adj2" fmla="val 260532"/>
            </a:avLst>
          </a:prstGeom>
          <a:solidFill>
            <a:srgbClr val="2ca3c8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.1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面向过程的程序设计和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68280"/>
            <a:ext cx="857232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面向过程的程序设计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现实生活中的实现方式转化为计算机中实现的方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体设计出计算机执行的每一个具体步骤，写出一个语句，安排好他们的执行顺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程序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数据结构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算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数据的描述：指定数据的类型和数据的组织形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操作的描述：操作步骤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算法：为解决一个问题而采取的方法和步骤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值算法：求数值解，如求方程的根，求函数的定积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非数值算法：范围广泛，最常见的是事务管理领域，如图书检索、人事管理、行车调度，典型的包括排序、查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方式：自然语言、流程图、伪代码、计算机程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逻辑表达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表达式  逻辑运算符 表达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其值是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就认为是“假”，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就认为是“真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逻辑运算的结果只能是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但逻辑表达式中参与运算的对象可以为任意数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闰年的条件是符合下面两者之一： ①能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整除，但不能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整除。②能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整除，又能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year % 4 == 0 &amp;&amp; year % 100 != 0) || year % 400 == 0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闰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!((year % 4 == 0 &amp;&amp; year % 100 != 0) || year % 400 == 0)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非闰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year % 4 != 0) || (year % 100 == 0 &amp;&amp; year % 400 !=0)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非闰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.7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结构和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f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表达式）语句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表达式）语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else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f(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达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else if(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达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)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else if(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达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)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…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else if(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达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)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else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5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52" name="Picture 3" descr="F:\C++程序设计\tu\tu\图3.5.tif"/>
          <p:cNvPicPr/>
          <p:nvPr/>
        </p:nvPicPr>
        <p:blipFill>
          <a:blip r:embed="rId1"/>
          <a:stretch/>
        </p:blipFill>
        <p:spPr>
          <a:xfrm>
            <a:off x="4500720" y="1285920"/>
            <a:ext cx="4143240" cy="1973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F:\C++程序设计\tu\tu\图3.6.TIF"/>
          <p:cNvPicPr/>
          <p:nvPr/>
        </p:nvPicPr>
        <p:blipFill>
          <a:blip r:embed="rId2"/>
          <a:stretch/>
        </p:blipFill>
        <p:spPr>
          <a:xfrm>
            <a:off x="5214960" y="3286080"/>
            <a:ext cx="32148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注意：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每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面有一分号，整个语句结束处有一分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f (x&gt;y) cout&lt;&lt;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lse  cout&lt;&lt;y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面可以用｛｝将几个语句括起来成为一个复合语句，此时｝外面不需要再加分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f (a+b&gt;c &amp;&amp; b+c&gt;a &amp;&amp; c+a&gt;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                              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复合语句开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double s,area;         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在复合语句内定义变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=(a+b+c)/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}                               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复合语句结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lse cout&lt;&lt;″it is not a trilateral!″&lt;&lt;end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1430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3.6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求三角形的面积。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cmath&gt;                //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使用数学函数时要包含头文件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cmath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manip&gt;              //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I/O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流控制符要包含头文件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iomanip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{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double a,b,c;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please enter a,b,c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″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;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cin&gt;&gt;a&gt;&gt;b&gt;&gt;c;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if (a+b&gt;c &amp;&amp; b+c&gt;a &amp;&amp; c+a&gt;b)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{                                      //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复合语句开始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double s,area;                        //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在复合语句内定义变量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s=(a+b+c)/2;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rea=sqrt(s*(s-a)*(s-b)*(s-c));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cout&lt;&lt;setiosflags(ios∷fixed)&lt;&lt;setprecision(4); //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指定输出的数包含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位小数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area=″&lt;&lt;area&lt;&lt;endl;                 //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在复合语句内输出局部变量的值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}                                           //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复合语句结束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else cout&lt;&lt;″it is not a trilateral!″&lt;&lt;endl;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5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if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语句的嵌套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f(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f( 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lse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内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f( 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lse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内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总是与它上面最近的、且未配对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配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加花括号来确定配对关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f(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 if ( 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}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lse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3286080" y="2286000"/>
            <a:ext cx="304920" cy="762120"/>
          </a:xfrm>
          <a:custGeom>
            <a:avLst/>
            <a:gdLst>
              <a:gd name="textAreaLeft" fmla="*/ 0 w 304920"/>
              <a:gd name="textAreaRight" fmla="*/ 11016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3286080" y="3286080"/>
            <a:ext cx="304920" cy="762120"/>
          </a:xfrm>
          <a:custGeom>
            <a:avLst/>
            <a:gdLst>
              <a:gd name="textAreaLeft" fmla="*/ 0 w 304920"/>
              <a:gd name="textAreaRight" fmla="*/ 11016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条件运算符和条件表达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表达式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1 ?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表达式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2 ∶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表达式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达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类型可以与表达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表达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类型不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? ′a′∶′b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达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表达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类型也可以不同，此时条件表达式的值的类型为二者中较高的类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char ch;       cin&gt;&gt;ch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=(ch&gt;=′A′ &amp;&amp; ch&lt;=′Z′)?(ch+32)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h;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ch&lt;&lt;end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 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多分支选择结构和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switch 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语句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表达式）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｛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常量表达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语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常量表达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语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...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常量表达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语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defaul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语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+1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｝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7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71" name="矩形 4"/>
          <p:cNvSpPr/>
          <p:nvPr/>
        </p:nvSpPr>
        <p:spPr>
          <a:xfrm>
            <a:off x="4286160" y="192888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witch(grade)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′A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t&lt;&lt;″85~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′B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t&lt;&lt;″70~8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′C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t&lt;&lt;″60~6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′D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t&lt;&lt;″&lt;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fault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t&lt;&lt;″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｝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72" name="Picture 3" descr="F:\C++程序设计\tu\tu\图3.7.TIF"/>
          <p:cNvPicPr/>
          <p:nvPr/>
        </p:nvPicPr>
        <p:blipFill>
          <a:blip r:embed="rId1"/>
          <a:stretch/>
        </p:blipFill>
        <p:spPr>
          <a:xfrm>
            <a:off x="2071800" y="4286160"/>
            <a:ext cx="421488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3840" y="1371600"/>
            <a:ext cx="86439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注意：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面括号内的“表达式”，允许为数值或字符型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一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达式的值必须互不相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efaul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出现次序不影响执行结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执行完一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子句后，流程控制转移到下一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子句继续执行。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量表达式”只是起语句标号作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结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子句中虽然包含一个以上执行语句，但可以不必用花括号括起来，会自动顺序执行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子句中所有的执行语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共用一组执行语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8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编写程序，判断某一年是否为闰年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f (year%4==0)       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份能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整除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if(year%100==0)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份能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整除又能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整除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if (year%400==0)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份能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整除又能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0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整除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eap=true;   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闰年，令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eap=true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真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lse leap=false;}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非闰年，令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eap=false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假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lse     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份能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整除但不能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整除肯定是闰年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eap=true;}  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是闰年，令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eap=true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lse                    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份不能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整除肯定不是闰年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eap=false;     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若为非闰年，令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eap=false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7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56760" y="1371600"/>
            <a:ext cx="85726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9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运输公司对用户计算运费。路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越远，每公里运费越低。标准如下： 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50km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没有折扣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50≤s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0                        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％折扣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0≤s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0                      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％折扣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0≤s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00                     8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％折扣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00≤s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00                     1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％折扣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00≤s                               1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％折扣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每公里每吨货物的基本运费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货物重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距离为ｓ，折扣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总运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计算公式为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 = p * w * s * (1 - d)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8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.2 C++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程序和语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60" name="Picture 3" descr="F:\C++程序设计\tu\tu\图3.1.tif"/>
          <p:cNvPicPr/>
          <p:nvPr/>
        </p:nvPicPr>
        <p:blipFill>
          <a:blip r:embed="rId1"/>
          <a:stretch/>
        </p:blipFill>
        <p:spPr>
          <a:xfrm>
            <a:off x="1285920" y="1928880"/>
            <a:ext cx="6286320" cy="4410000"/>
          </a:xfrm>
          <a:prstGeom prst="rect">
            <a:avLst/>
          </a:prstGeom>
          <a:ln w="0">
            <a:noFill/>
          </a:ln>
        </p:spPr>
      </p:pic>
      <p:sp>
        <p:nvSpPr>
          <p:cNvPr id="161" name="矩形 5"/>
          <p:cNvSpPr/>
          <p:nvPr/>
        </p:nvSpPr>
        <p:spPr>
          <a:xfrm>
            <a:off x="571680" y="142884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程序结构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20492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if(s&gt;=3000) c=12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else c=s/250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switch (c)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{case 0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d=0;break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ase 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d=2;break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ase 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ase 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d=5;break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ase 4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ase 5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ase 6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ase 7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d=8;break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ase 8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ase 9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ase 10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ase 1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d=10;break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ase 1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d=15;break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f=p*w*s*(1-d/100.0);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8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85" name="Picture 3" descr="F:\C++程序设计\tu\tu\图3.8.TIF"/>
          <p:cNvPicPr/>
          <p:nvPr/>
        </p:nvPicPr>
        <p:blipFill>
          <a:blip r:embed="rId1"/>
          <a:stretch/>
        </p:blipFill>
        <p:spPr>
          <a:xfrm>
            <a:off x="3071880" y="1928880"/>
            <a:ext cx="56610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87" name="文本框 6"/>
          <p:cNvSpPr/>
          <p:nvPr/>
        </p:nvSpPr>
        <p:spPr>
          <a:xfrm>
            <a:off x="914400" y="1282680"/>
            <a:ext cx="731520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检查以下嵌套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句的三个分支是否正确，至少需要设计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测试用例。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f(yournumber == mynumber){ 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intf("Good Guess!\n")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}else if(yournumber &gt; mynumber ){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intf("Too big!\n")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}else{ 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intf("Too small!\n")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}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88" name="文本框 7"/>
          <p:cNvSpPr/>
          <p:nvPr/>
        </p:nvSpPr>
        <p:spPr>
          <a:xfrm>
            <a:off x="1828800" y="46530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rue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89" name="文本框 8"/>
          <p:cNvSpPr/>
          <p:nvPr/>
        </p:nvSpPr>
        <p:spPr>
          <a:xfrm>
            <a:off x="1828800" y="551016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alse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90" name="椭圆 11"/>
          <p:cNvSpPr/>
          <p:nvPr/>
        </p:nvSpPr>
        <p:spPr>
          <a:xfrm>
            <a:off x="1114560" y="471816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91" name="椭圆 12"/>
          <p:cNvSpPr/>
          <p:nvPr/>
        </p:nvSpPr>
        <p:spPr>
          <a:xfrm>
            <a:off x="1114560" y="557532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92" name="矩形: 圆角 15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293" name="组合 20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294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95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96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97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298" name="图片 5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0" name="文本框 4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正确表示逻辑关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或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"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语言表达式是（）。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1" name="文本框 5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&gt;=10 or a&lt;=0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2" name="文本框 6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&gt;=0 | a&lt;=10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3" name="文本框 7"/>
          <p:cNvSpPr/>
          <p:nvPr/>
        </p:nvSpPr>
        <p:spPr>
          <a:xfrm>
            <a:off x="1828800" y="450072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&gt;=10 &amp;&amp; a&lt;=0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4" name="文本框 8"/>
          <p:cNvSpPr/>
          <p:nvPr/>
        </p:nvSpPr>
        <p:spPr>
          <a:xfrm>
            <a:off x="1828800" y="535788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&gt;=10 || a&lt;=0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5" name="椭圆 9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6" name="椭圆 10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7" name="椭圆 11"/>
          <p:cNvSpPr/>
          <p:nvPr/>
        </p:nvSpPr>
        <p:spPr>
          <a:xfrm>
            <a:off x="1114560" y="456408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8" name="椭圆 12"/>
          <p:cNvSpPr/>
          <p:nvPr/>
        </p:nvSpPr>
        <p:spPr>
          <a:xfrm>
            <a:off x="1114560" y="542124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9" name="矩形: 圆角 1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10" name="组合 1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11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12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13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14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315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.8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循环结构和循环语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00040" y="11430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While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循环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while (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表达式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当指定的条件为真时，执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中的内嵌语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循环体如果包含一个以上的语句，应该用花括号括起来，以复合语句形式出现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在循环体中应有使循环趋向于结束的语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19" name="Picture 4" descr="F:\C++程序设计\tu\tu\图3.9.TIF"/>
          <p:cNvPicPr/>
          <p:nvPr/>
        </p:nvPicPr>
        <p:blipFill>
          <a:blip r:embed="rId1"/>
          <a:stretch/>
        </p:blipFill>
        <p:spPr>
          <a:xfrm>
            <a:off x="1285920" y="3071880"/>
            <a:ext cx="1643040" cy="2343240"/>
          </a:xfrm>
          <a:prstGeom prst="rect">
            <a:avLst/>
          </a:prstGeom>
          <a:ln w="0">
            <a:noFill/>
          </a:ln>
        </p:spPr>
      </p:pic>
      <p:sp>
        <p:nvSpPr>
          <p:cNvPr id="320" name="矩形 5"/>
          <p:cNvSpPr/>
          <p:nvPr/>
        </p:nvSpPr>
        <p:spPr>
          <a:xfrm>
            <a:off x="3929040" y="271476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10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+2+3+…+10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clude &lt;iostream&gt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int i=1,sum=0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while (i&lt;=100)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 sum=sum+i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++; }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sum=″&lt;&lt;sum&lt;&lt;endl;  }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3" descr="F:\C++程序设计\tu\tu\图3.11.TIF"/>
          <p:cNvPicPr/>
          <p:nvPr/>
        </p:nvPicPr>
        <p:blipFill>
          <a:blip r:embed="rId1"/>
          <a:stretch/>
        </p:blipFill>
        <p:spPr>
          <a:xfrm>
            <a:off x="1571760" y="3929040"/>
            <a:ext cx="1857240" cy="21114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6840" y="1500120"/>
            <a:ext cx="40402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a3c8"/>
                </a:solidFill>
                <a:latin typeface="Verdana"/>
                <a:ea typeface="宋体"/>
              </a:rPr>
              <a:t>do-while</a:t>
            </a:r>
            <a:r>
              <a:rPr b="1" lang="zh-CN" sz="2400" spc="-1" strike="noStrike">
                <a:solidFill>
                  <a:srgbClr val="2ca3c8"/>
                </a:solidFill>
                <a:latin typeface="Verdana"/>
                <a:ea typeface="宋体"/>
              </a:rPr>
              <a:t>循环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d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   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语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while (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表达式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先执行循环体，然后判断循环条件是否成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714560" y="1500120"/>
            <a:ext cx="4041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.11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句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+2+3+…+10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int i=1,sum=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o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sum=sum+i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++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while (i&lt;=100)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sum=″&lt;&lt;sum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2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371600"/>
            <a:ext cx="632952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for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循环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or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达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表达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表达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for(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循环变量赋初值；循环条件；循环变量增值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语句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um=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or(i=1;i&lt;=100;i++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um=sum+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28" name="Picture 3" descr="F:\C++程序设计\tu\tu\图3.14.tif"/>
          <p:cNvPicPr/>
          <p:nvPr/>
        </p:nvPicPr>
        <p:blipFill>
          <a:blip r:embed="rId1"/>
          <a:stretch/>
        </p:blipFill>
        <p:spPr>
          <a:xfrm>
            <a:off x="6858000" y="1714680"/>
            <a:ext cx="1892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说明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1) for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句中的“表达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可以省略，此时应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句之前给循环变量赋初值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=1; sum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or(;i&lt;=100;i++)  sum+=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2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果表达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省略，即不判断循环条件，循环无终止地进行下去。也就是认为表达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始终为真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or(i=1;;i++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um=sum+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表达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也可以省略，但此时程序设计者应另外设法保证循环能正常结束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or(i=1;i&lt;=100;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sum=sum+i;  i++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13840" y="1371600"/>
            <a:ext cx="86439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说明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可以省略表达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和表达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只有表达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即只给循环条件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=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or(;i&lt;=100;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sum=sum+i; i++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5) 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个表达式都可省略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or(;;)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相当于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while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6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表达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也可以使逗号表达式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or(sum=0,i=1;i&lt;=100;i++)   sum=sum+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or(i=1,j=100;i&lt;=j;i++,j--)   k+=i+j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7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表达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一般是关系表达式或逻辑表达式，但也可以是数值表达式或字符表达式，只要其值为非零，就执行循环体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or(i=0;(c=getchar())!=‘\n’;)  cout&lt;&lt;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几种循环的比较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1) 3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循环都可以用来处理同一问题，一般情况下它们可以互相代替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2) whil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循环是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面指定循环条件的，在循环体中应包含使循环趋于结束的语句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循环可以在表达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包含使循环趋于结束的操作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循环时，循环变量初始化的操作应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之前完成。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句可以在表达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实现循环变量的初始化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循环的嵌套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个循环体内又包含另一个完整的循环结构，称为循环的嵌套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嵌的循环中还可以嵌套循环，这就是多层循环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循环可以互相嵌套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hile(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{  while(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{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41" name="矩形 4"/>
          <p:cNvSpPr/>
          <p:nvPr/>
        </p:nvSpPr>
        <p:spPr>
          <a:xfrm>
            <a:off x="3643200" y="40021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or(;;)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{  for(;;)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{…}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42" name="矩形 5"/>
          <p:cNvSpPr/>
          <p:nvPr/>
        </p:nvSpPr>
        <p:spPr>
          <a:xfrm>
            <a:off x="6143760" y="3941640"/>
            <a:ext cx="164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or(;; )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{  while( )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{…}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语句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程序中最小的独立单位，用分号结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声明语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，对变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及其他对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定义被认为是一条语句，并且可以出现在函数中的任何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执行语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完成一定的操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空语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它什么也不做，有时候做循环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复合语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{ }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把一些语句括起来成为复合语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371600"/>
            <a:ext cx="4038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break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语句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流程从循环体内跳出循环体，提前结束循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continue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语句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束本次循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ntinue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句只结束本次循环，而不是终止整个循环的执行。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break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句则是结束整个循环过程，不再判断执行循环的条件是否成立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4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46" name="Picture 3" descr="F:\C++程序设计\tu\tu\图3.18.tif"/>
          <p:cNvPicPr/>
          <p:nvPr/>
        </p:nvPicPr>
        <p:blipFill>
          <a:blip r:embed="rId1"/>
          <a:stretch/>
        </p:blipFill>
        <p:spPr>
          <a:xfrm>
            <a:off x="4572000" y="1428840"/>
            <a:ext cx="1895400" cy="4572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F:\C++程序设计\tu\tu\图3.19.tif"/>
          <p:cNvPicPr/>
          <p:nvPr/>
        </p:nvPicPr>
        <p:blipFill>
          <a:blip r:embed="rId2"/>
          <a:stretch/>
        </p:blipFill>
        <p:spPr>
          <a:xfrm>
            <a:off x="6715080" y="1428840"/>
            <a:ext cx="2181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371600"/>
            <a:ext cx="84009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12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下面公式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π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近似值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π/4≈1-1/3+1/5-1/7+…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直到最后一项的绝对值小于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-7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止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宋体"/>
              </a:rPr>
              <a:t>int s=1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宋体"/>
              </a:rPr>
              <a:t>double n=1,t=1,pi=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宋体"/>
              </a:rPr>
              <a:t>while((fabs(t))&gt;1e-7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宋体"/>
              </a:rPr>
              <a:t>{pi=pi+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宋体"/>
              </a:rPr>
              <a:t>n=n+2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=-s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=s/n; 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i=pi*4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pi=″&lt;&lt;setiosflags(ios∷fixed)&lt;&lt;setprecision(6)&lt;&lt;pi&lt;&lt;endl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5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13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ibonacc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数列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数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F1=1           (n=1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F2=1           (n=2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Fn=Fn-1+Fn-2   (n≥3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long f1,f2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int i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f1=f2=1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for(i=1;i&lt;=20;i++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{ cout&lt;&lt;setw(12)&lt;&lt;f1&lt;&lt;setw(12)&lt;&lt;f2;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if(i%2==0) cout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f1=f1+f2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宋体"/>
              </a:rPr>
              <a:t>f2=f2+f1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5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14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找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~20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间的全部素数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,k,i,n=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ool prime;      //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定义布尔变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r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m=101;m&lt;=200;m=m+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prime=tru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k=int(sqrt(m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for(i=2;i&lt;=k;i++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(m%i==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prime=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reak;  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 (prim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out&lt;&lt;setw(5)&lt;&lt;m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=n+1;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(n%10==0) cout&lt;&lt;end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15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译密码。为使电文保密，往往按一定规律将电文转换成密码，收报人再按约定的规律将其译回原文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char c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hile ((c=getchar( ))!=′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＼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′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if((c&gt;=′a′ &amp;&amp; c&lt;=′z′) || (c&gt;=′A′ &amp;&amp; c&lt;=′Z′))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{   c=c+4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f(c&gt;′Z′ &amp;&amp; c&lt;=′Z′+4 || c&gt;′z′) c=c-26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c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ut&lt;&lt;endl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} 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5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60" name="Picture 3" descr="F:\C++程序设计\tu\tu\图3.20.tif"/>
          <p:cNvPicPr/>
          <p:nvPr/>
        </p:nvPicPr>
        <p:blipFill>
          <a:blip r:embed="rId1"/>
          <a:stretch/>
        </p:blipFill>
        <p:spPr>
          <a:xfrm>
            <a:off x="6786720" y="2143080"/>
            <a:ext cx="2093760" cy="221472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3" descr=""/>
          <p:cNvPicPr/>
          <p:nvPr/>
        </p:nvPicPr>
        <p:blipFill>
          <a:blip r:embed="rId2"/>
          <a:stretch/>
        </p:blipFill>
        <p:spPr>
          <a:xfrm>
            <a:off x="6527880" y="4357800"/>
            <a:ext cx="2352600" cy="2071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9" descr="陈宇翱：量子通信让信息无条件安全"/>
          <p:cNvPicPr/>
          <p:nvPr/>
        </p:nvPicPr>
        <p:blipFill>
          <a:blip r:embed="rId3"/>
          <a:stretch/>
        </p:blipFill>
        <p:spPr>
          <a:xfrm>
            <a:off x="9612360" y="34920"/>
            <a:ext cx="5952960" cy="30672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1" descr="陈宇翱：量子通信让信息无条件安全"/>
          <p:cNvPicPr/>
          <p:nvPr/>
        </p:nvPicPr>
        <p:blipFill>
          <a:blip r:embed="rId4"/>
          <a:stretch/>
        </p:blipFill>
        <p:spPr>
          <a:xfrm>
            <a:off x="12739680" y="3159000"/>
            <a:ext cx="4422960" cy="3502080"/>
          </a:xfrm>
          <a:prstGeom prst="rect">
            <a:avLst/>
          </a:prstGeom>
          <a:ln w="0">
            <a:noFill/>
          </a:ln>
        </p:spPr>
      </p:pic>
      <p:sp>
        <p:nvSpPr>
          <p:cNvPr id="364" name="文本框 2"/>
          <p:cNvSpPr/>
          <p:nvPr/>
        </p:nvSpPr>
        <p:spPr>
          <a:xfrm>
            <a:off x="12234960" y="6576840"/>
            <a:ext cx="50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用于破译英格玛密码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UM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“炸弹”）计算机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65" name="Picture 10" descr="密码改变世界：二战时期的Enigma密码机-SSL证书申请指南网"/>
          <p:cNvPicPr/>
          <p:nvPr/>
        </p:nvPicPr>
        <p:blipFill>
          <a:blip r:embed="rId5"/>
          <a:stretch/>
        </p:blipFill>
        <p:spPr>
          <a:xfrm>
            <a:off x="9756720" y="3216240"/>
            <a:ext cx="2254320" cy="3246480"/>
          </a:xfrm>
          <a:prstGeom prst="rect">
            <a:avLst/>
          </a:prstGeom>
          <a:ln w="0">
            <a:noFill/>
          </a:ln>
        </p:spPr>
      </p:pic>
      <p:sp>
        <p:nvSpPr>
          <p:cNvPr id="366" name="文本框 3"/>
          <p:cNvSpPr/>
          <p:nvPr/>
        </p:nvSpPr>
        <p:spPr>
          <a:xfrm>
            <a:off x="10028160" y="657684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英格玛密码机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68" name="文本框 6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叙述中正确的是（）。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69" name="文本框 7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reak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句只能用于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witch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句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70" name="文本框 8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witch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句中必须使用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fault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71" name="文本框 9"/>
          <p:cNvSpPr/>
          <p:nvPr/>
        </p:nvSpPr>
        <p:spPr>
          <a:xfrm>
            <a:off x="1828800" y="4500720"/>
            <a:ext cx="713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reak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句必须与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witch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句中的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ase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对使用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72" name="文本框 10"/>
          <p:cNvSpPr/>
          <p:nvPr/>
        </p:nvSpPr>
        <p:spPr>
          <a:xfrm>
            <a:off x="1828800" y="535788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witch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句中，不一定使用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reak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句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73" name="椭圆 11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74" name="椭圆 12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75" name="椭圆 13"/>
          <p:cNvSpPr/>
          <p:nvPr/>
        </p:nvSpPr>
        <p:spPr>
          <a:xfrm>
            <a:off x="1114560" y="456408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76" name="椭圆 14"/>
          <p:cNvSpPr/>
          <p:nvPr/>
        </p:nvSpPr>
        <p:spPr>
          <a:xfrm>
            <a:off x="1114560" y="542124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77" name="矩形: 圆角 15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78" name="组合 20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79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80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81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82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383" name="图片 5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85" name="文本框 4"/>
          <p:cNvSpPr/>
          <p:nvPr/>
        </p:nvSpPr>
        <p:spPr>
          <a:xfrm>
            <a:off x="914400" y="635040"/>
            <a:ext cx="81025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函数                    ，以下程序段中错误的是（）。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86" name="文本框 5"/>
          <p:cNvSpPr/>
          <p:nvPr/>
        </p:nvSpPr>
        <p:spPr>
          <a:xfrm>
            <a:off x="1828800" y="2786040"/>
            <a:ext cx="2598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f(x &gt; 0) y = 1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se if(x == 0) y = 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se y = -1;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87" name="文本框 6"/>
          <p:cNvSpPr/>
          <p:nvPr/>
        </p:nvSpPr>
        <p:spPr>
          <a:xfrm>
            <a:off x="1828800" y="4502160"/>
            <a:ext cx="24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 = 0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f(x &gt; 0) y = 1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se if(x &lt; 0) y = -1;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88" name="文本框 7"/>
          <p:cNvSpPr/>
          <p:nvPr/>
        </p:nvSpPr>
        <p:spPr>
          <a:xfrm>
            <a:off x="5759280" y="2744640"/>
            <a:ext cx="3079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 = 0;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f(x &gt;= 0);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f(x &gt; 0) y = 1;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se y = -1;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89" name="文本框 8"/>
          <p:cNvSpPr/>
          <p:nvPr/>
        </p:nvSpPr>
        <p:spPr>
          <a:xfrm>
            <a:off x="5759280" y="4567320"/>
            <a:ext cx="313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f(x &gt;= 0)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f(x &gt; 0) y = 1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se y = 0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se y = -1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90" name="椭圆 9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91" name="椭圆 10"/>
          <p:cNvSpPr/>
          <p:nvPr/>
        </p:nvSpPr>
        <p:spPr>
          <a:xfrm>
            <a:off x="1114560" y="456732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92" name="椭圆 11"/>
          <p:cNvSpPr/>
          <p:nvPr/>
        </p:nvSpPr>
        <p:spPr>
          <a:xfrm>
            <a:off x="5045040" y="2809800"/>
            <a:ext cx="51444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93" name="椭圆 12"/>
          <p:cNvSpPr/>
          <p:nvPr/>
        </p:nvSpPr>
        <p:spPr>
          <a:xfrm>
            <a:off x="5045040" y="463068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94" name="矩形: 圆角 1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95" name="图片 21" descr=""/>
          <p:cNvPicPr/>
          <p:nvPr/>
        </p:nvPicPr>
        <p:blipFill>
          <a:blip r:embed="rId1"/>
          <a:stretch/>
        </p:blipFill>
        <p:spPr>
          <a:xfrm>
            <a:off x="2411280" y="1225440"/>
            <a:ext cx="1747800" cy="908280"/>
          </a:xfrm>
          <a:prstGeom prst="rect">
            <a:avLst/>
          </a:prstGeom>
          <a:ln w="0">
            <a:noFill/>
          </a:ln>
        </p:spPr>
      </p:pic>
      <p:grpSp>
        <p:nvGrpSpPr>
          <p:cNvPr id="396" name="组合 1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97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98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99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00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401" name="图片 3" descr=""/>
          <p:cNvPicPr/>
          <p:nvPr/>
        </p:nvPicPr>
        <p:blipFill>
          <a:blip r:embed="rId2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03" name="文本框 4"/>
          <p:cNvSpPr/>
          <p:nvPr/>
        </p:nvSpPr>
        <p:spPr>
          <a:xfrm>
            <a:off x="914400" y="635040"/>
            <a:ext cx="73152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t main(void)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{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t x = 1, a = 0, b = 0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witch(x)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{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ase 0:   b++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ase 1:   a++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ase 2:   a++; b++;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}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intf("a=%d,b=%d\n",a,b);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turn 0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}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04" name="文本框 5"/>
          <p:cNvSpPr/>
          <p:nvPr/>
        </p:nvSpPr>
        <p:spPr>
          <a:xfrm>
            <a:off x="1901880" y="4648320"/>
            <a:ext cx="173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=2,b=1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05" name="文本框 6"/>
          <p:cNvSpPr/>
          <p:nvPr/>
        </p:nvSpPr>
        <p:spPr>
          <a:xfrm>
            <a:off x="1901880" y="5505480"/>
            <a:ext cx="1806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=1,b=1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06" name="文本框 7"/>
          <p:cNvSpPr/>
          <p:nvPr/>
        </p:nvSpPr>
        <p:spPr>
          <a:xfrm>
            <a:off x="7034040" y="4665600"/>
            <a:ext cx="173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=1,b=0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07" name="文本框 8"/>
          <p:cNvSpPr/>
          <p:nvPr/>
        </p:nvSpPr>
        <p:spPr>
          <a:xfrm>
            <a:off x="7034040" y="5522760"/>
            <a:ext cx="1806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=2,b=2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08" name="椭圆 9"/>
          <p:cNvSpPr/>
          <p:nvPr/>
        </p:nvSpPr>
        <p:spPr>
          <a:xfrm>
            <a:off x="1187280" y="4711680"/>
            <a:ext cx="51444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09" name="椭圆 10"/>
          <p:cNvSpPr/>
          <p:nvPr/>
        </p:nvSpPr>
        <p:spPr>
          <a:xfrm>
            <a:off x="1187280" y="556884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10" name="椭圆 11"/>
          <p:cNvSpPr/>
          <p:nvPr/>
        </p:nvSpPr>
        <p:spPr>
          <a:xfrm>
            <a:off x="6319800" y="4729320"/>
            <a:ext cx="51444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11" name="椭圆 12"/>
          <p:cNvSpPr/>
          <p:nvPr/>
        </p:nvSpPr>
        <p:spPr>
          <a:xfrm>
            <a:off x="6319800" y="558648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12" name="矩形: 圆角 1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413" name="组合 1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414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15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16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17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418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420" name="Group 4"/>
          <p:cNvGrpSpPr/>
          <p:nvPr/>
        </p:nvGrpSpPr>
        <p:grpSpPr>
          <a:xfrm>
            <a:off x="5003640" y="2349360"/>
            <a:ext cx="3745080" cy="3816000"/>
            <a:chOff x="5003640" y="2349360"/>
            <a:chExt cx="3745080" cy="3816000"/>
          </a:xfrm>
        </p:grpSpPr>
        <p:sp>
          <p:nvSpPr>
            <p:cNvPr id="421" name="AutoShape 5"/>
            <p:cNvSpPr/>
            <p:nvPr/>
          </p:nvSpPr>
          <p:spPr>
            <a:xfrm>
              <a:off x="5003640" y="2354760"/>
              <a:ext cx="3745080" cy="3764520"/>
            </a:xfrm>
            <a:custGeom>
              <a:avLst/>
              <a:gdLst>
                <a:gd name="textAreaLeft" fmla="*/ 548640 w 3745080"/>
                <a:gd name="textAreaRight" fmla="*/ 3196440 w 3745080"/>
                <a:gd name="textAreaTop" fmla="*/ 551160 h 3764520"/>
                <a:gd name="textAreaBottom" fmla="*/ 3213360 h 376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0" y="10800"/>
                  </a:moveTo>
                  <a:cubicBezTo>
                    <a:pt x="320" y="16588"/>
                    <a:pt x="5012" y="21280"/>
                    <a:pt x="10800" y="21280"/>
                  </a:cubicBezTo>
                  <a:cubicBezTo>
                    <a:pt x="16588" y="21280"/>
                    <a:pt x="21280" y="16588"/>
                    <a:pt x="21280" y="10800"/>
                  </a:cubicBezTo>
                  <a:cubicBezTo>
                    <a:pt x="21280" y="5012"/>
                    <a:pt x="16588" y="320"/>
                    <a:pt x="10800" y="320"/>
                  </a:cubicBezTo>
                  <a:cubicBezTo>
                    <a:pt x="5012" y="320"/>
                    <a:pt x="320" y="5012"/>
                    <a:pt x="320" y="1080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22" name="Freeform 6"/>
            <p:cNvSpPr/>
            <p:nvPr/>
          </p:nvSpPr>
          <p:spPr>
            <a:xfrm>
              <a:off x="5563080" y="5423400"/>
              <a:ext cx="447120" cy="34200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23" name="Freeform 7"/>
            <p:cNvSpPr/>
            <p:nvPr/>
          </p:nvSpPr>
          <p:spPr>
            <a:xfrm>
              <a:off x="6202080" y="3521520"/>
              <a:ext cx="577800" cy="26438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643840"/>
                <a:gd name="textAreaBottom" fmla="*/ 2644200 h 2643840"/>
              </a:gdLst>
              <a:ahLst/>
              <a:rect l="textAreaLeft" t="textAreaTop" r="textAreaRight" b="textAreaBottom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24" name="Freeform 8"/>
            <p:cNvSpPr/>
            <p:nvPr/>
          </p:nvSpPr>
          <p:spPr>
            <a:xfrm>
              <a:off x="6701040" y="3476880"/>
              <a:ext cx="590040" cy="257472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2574720"/>
                <a:gd name="textAreaBottom" fmla="*/ 2575080 h 2574720"/>
              </a:gdLst>
              <a:ahLst/>
              <a:rect l="textAreaLeft" t="textAreaTop" r="textAreaRight" b="textAreaBottom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25" name="Freeform 9"/>
            <p:cNvSpPr/>
            <p:nvPr/>
          </p:nvSpPr>
          <p:spPr>
            <a:xfrm>
              <a:off x="7041240" y="3276000"/>
              <a:ext cx="825120" cy="2663640"/>
            </a:xfrm>
            <a:custGeom>
              <a:avLst/>
              <a:gdLst>
                <a:gd name="textAreaLeft" fmla="*/ 0 w 825120"/>
                <a:gd name="textAreaRight" fmla="*/ 825480 w 825120"/>
                <a:gd name="textAreaTop" fmla="*/ 0 h 2663640"/>
                <a:gd name="textAreaBottom" fmla="*/ 2664000 h 2663640"/>
              </a:gdLst>
              <a:ahLst/>
              <a:rect l="textAreaLeft" t="textAreaTop" r="textAreaRight" b="textAreaBottom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26" name="Freeform 10"/>
            <p:cNvSpPr/>
            <p:nvPr/>
          </p:nvSpPr>
          <p:spPr>
            <a:xfrm>
              <a:off x="7910640" y="3559320"/>
              <a:ext cx="465120" cy="209520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095200"/>
                <a:gd name="textAreaBottom" fmla="*/ 2095560 h 2095200"/>
              </a:gdLst>
              <a:ahLst/>
              <a:rect l="textAreaLeft" t="textAreaTop" r="textAreaRight" b="textAreaBottom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27" name="Freeform 11"/>
            <p:cNvSpPr/>
            <p:nvPr/>
          </p:nvSpPr>
          <p:spPr>
            <a:xfrm>
              <a:off x="5553720" y="4203000"/>
              <a:ext cx="788040" cy="1809360"/>
            </a:xfrm>
            <a:custGeom>
              <a:avLst/>
              <a:gdLst>
                <a:gd name="textAreaLeft" fmla="*/ 0 w 788040"/>
                <a:gd name="textAreaRight" fmla="*/ 788400 w 788040"/>
                <a:gd name="textAreaTop" fmla="*/ 0 h 1809360"/>
                <a:gd name="textAreaBottom" fmla="*/ 1809720 h 1809360"/>
              </a:gdLst>
              <a:ahLst/>
              <a:rect l="textAreaLeft" t="textAreaTop" r="textAreaRight" b="textAreaBottom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28" name="Freeform 12"/>
            <p:cNvSpPr/>
            <p:nvPr/>
          </p:nvSpPr>
          <p:spPr>
            <a:xfrm>
              <a:off x="6903720" y="2514600"/>
              <a:ext cx="901080" cy="269280"/>
            </a:xfrm>
            <a:custGeom>
              <a:avLst/>
              <a:gdLst>
                <a:gd name="textAreaLeft" fmla="*/ 0 w 901080"/>
                <a:gd name="textAreaRight" fmla="*/ 901440 w 90108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29" name="Freeform 13"/>
            <p:cNvSpPr/>
            <p:nvPr/>
          </p:nvSpPr>
          <p:spPr>
            <a:xfrm>
              <a:off x="7112520" y="2890440"/>
              <a:ext cx="693000" cy="11448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30" name="Freeform 14"/>
            <p:cNvSpPr/>
            <p:nvPr/>
          </p:nvSpPr>
          <p:spPr>
            <a:xfrm>
              <a:off x="6728760" y="2349360"/>
              <a:ext cx="280440" cy="34632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31" name="Freeform 15"/>
            <p:cNvSpPr/>
            <p:nvPr/>
          </p:nvSpPr>
          <p:spPr>
            <a:xfrm>
              <a:off x="6468840" y="2384280"/>
              <a:ext cx="92160" cy="40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32" name="Freeform 16"/>
            <p:cNvSpPr/>
            <p:nvPr/>
          </p:nvSpPr>
          <p:spPr>
            <a:xfrm>
              <a:off x="5732640" y="3535560"/>
              <a:ext cx="2320920" cy="851400"/>
            </a:xfrm>
            <a:custGeom>
              <a:avLst/>
              <a:gdLst>
                <a:gd name="textAreaLeft" fmla="*/ 0 w 2320920"/>
                <a:gd name="textAreaRight" fmla="*/ 2321280 w 2320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33" name="Freeform 17"/>
            <p:cNvSpPr/>
            <p:nvPr/>
          </p:nvSpPr>
          <p:spPr>
            <a:xfrm>
              <a:off x="5153400" y="3729240"/>
              <a:ext cx="3544200" cy="1541160"/>
            </a:xfrm>
            <a:custGeom>
              <a:avLst/>
              <a:gdLst>
                <a:gd name="textAreaLeft" fmla="*/ 0 w 3544200"/>
                <a:gd name="textAreaRight" fmla="*/ 3544560 w 354420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5944680" y="4891680"/>
              <a:ext cx="2697840" cy="990360"/>
            </a:xfrm>
            <a:custGeom>
              <a:avLst/>
              <a:gdLst>
                <a:gd name="textAreaLeft" fmla="*/ 0 w 2697840"/>
                <a:gd name="textAreaRight" fmla="*/ 2698200 w 26978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35" name="Freeform 19"/>
            <p:cNvSpPr/>
            <p:nvPr/>
          </p:nvSpPr>
          <p:spPr>
            <a:xfrm>
              <a:off x="6941880" y="2628000"/>
              <a:ext cx="1751400" cy="1426320"/>
            </a:xfrm>
            <a:custGeom>
              <a:avLst/>
              <a:gdLst>
                <a:gd name="textAreaLeft" fmla="*/ 0 w 1751400"/>
                <a:gd name="textAreaRight" fmla="*/ 1751760 w 1751400"/>
                <a:gd name="textAreaTop" fmla="*/ 0 h 1426320"/>
                <a:gd name="textAreaBottom" fmla="*/ 1426680 h 1426320"/>
              </a:gdLst>
              <a:ahLst/>
              <a:rect l="textAreaLeft" t="textAreaTop" r="textAreaRight" b="textAreaBottom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36" name="Freeform 20"/>
            <p:cNvSpPr/>
            <p:nvPr/>
          </p:nvSpPr>
          <p:spPr>
            <a:xfrm>
              <a:off x="7230960" y="2639160"/>
              <a:ext cx="287640" cy="2635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37" name="Freeform 21"/>
            <p:cNvSpPr/>
            <p:nvPr/>
          </p:nvSpPr>
          <p:spPr>
            <a:xfrm>
              <a:off x="6728760" y="2566440"/>
              <a:ext cx="620280" cy="48816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38" name="Freeform 22"/>
            <p:cNvSpPr/>
            <p:nvPr/>
          </p:nvSpPr>
          <p:spPr>
            <a:xfrm>
              <a:off x="6831720" y="2447280"/>
              <a:ext cx="239400" cy="218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39" name="Freeform 23"/>
            <p:cNvSpPr/>
            <p:nvPr/>
          </p:nvSpPr>
          <p:spPr>
            <a:xfrm>
              <a:off x="5003640" y="2457000"/>
              <a:ext cx="2008440" cy="2510640"/>
            </a:xfrm>
            <a:custGeom>
              <a:avLst/>
              <a:gdLst>
                <a:gd name="textAreaLeft" fmla="*/ 0 w 2008440"/>
                <a:gd name="textAreaRight" fmla="*/ 2008800 w 2008440"/>
                <a:gd name="textAreaTop" fmla="*/ 0 h 2510640"/>
                <a:gd name="textAreaBottom" fmla="*/ 2511000 h 2510640"/>
              </a:gdLst>
              <a:ahLst/>
              <a:rect l="textAreaLeft" t="textAreaTop" r="textAreaRight" b="textAreaBottom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40" name="Freeform 24"/>
            <p:cNvSpPr/>
            <p:nvPr/>
          </p:nvSpPr>
          <p:spPr>
            <a:xfrm>
              <a:off x="6321240" y="5680080"/>
              <a:ext cx="550080" cy="41364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41" name="Freeform 25"/>
            <p:cNvSpPr/>
            <p:nvPr/>
          </p:nvSpPr>
          <p:spPr>
            <a:xfrm>
              <a:off x="6192360" y="5563800"/>
              <a:ext cx="543240" cy="18324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42" name="Freeform 26"/>
            <p:cNvSpPr/>
            <p:nvPr/>
          </p:nvSpPr>
          <p:spPr>
            <a:xfrm>
              <a:off x="5216400" y="4997160"/>
              <a:ext cx="184320" cy="2494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43" name="Freeform 27"/>
            <p:cNvSpPr/>
            <p:nvPr/>
          </p:nvSpPr>
          <p:spPr>
            <a:xfrm>
              <a:off x="5395320" y="4883400"/>
              <a:ext cx="109800" cy="3686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44" name="Freeform 28"/>
            <p:cNvSpPr/>
            <p:nvPr/>
          </p:nvSpPr>
          <p:spPr>
            <a:xfrm>
              <a:off x="5560560" y="4593240"/>
              <a:ext cx="354600" cy="31392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 rot="10800000">
              <a:off x="6065280" y="2685600"/>
              <a:ext cx="1117080" cy="855360"/>
            </a:xfrm>
            <a:custGeom>
              <a:avLst/>
              <a:gdLst>
                <a:gd name="textAreaLeft" fmla="*/ 163440 w 1117080"/>
                <a:gd name="textAreaRight" fmla="*/ 953640 w 1117080"/>
                <a:gd name="textAreaTop" fmla="*/ 124560 h 855360"/>
                <a:gd name="textAreaBottom" fmla="*/ 730800 h 85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46" name="Rectangle 30"/>
          <p:cNvSpPr/>
          <p:nvPr/>
        </p:nvSpPr>
        <p:spPr>
          <a:xfrm>
            <a:off x="1332000" y="2852640"/>
            <a:ext cx="684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1d528d"/>
                </a:solidFill>
                <a:uFillTx/>
                <a:latin typeface="Verdana"/>
                <a:ea typeface="굴림"/>
              </a:rPr>
              <a:t>Thank </a:t>
            </a:r>
            <a:r>
              <a:rPr b="1" lang="en-US" sz="6000" spc="-1" strike="noStrike" u="sng">
                <a:solidFill>
                  <a:srgbClr val="2ca3c8"/>
                </a:solidFill>
                <a:uFillTx/>
                <a:latin typeface="Verdana"/>
                <a:ea typeface="굴림"/>
              </a:rPr>
              <a:t>You !</a:t>
            </a:r>
            <a:endParaRPr b="0" lang="en-US" sz="60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2" dur="3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为什么要读书？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什么要学程序设计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4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450" name="图片 4" descr=""/>
          <p:cNvPicPr/>
          <p:nvPr/>
        </p:nvPicPr>
        <p:blipFill>
          <a:blip r:embed="rId1"/>
          <a:stretch/>
        </p:blipFill>
        <p:spPr>
          <a:xfrm>
            <a:off x="1257480" y="2421000"/>
            <a:ext cx="6629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执行语句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控制语句，完成一定的控制功能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种控制语句，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①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f( )~else~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条件语句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②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or( )~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循环语句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while( )~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循环语句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④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do~while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 ）       （循环语句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⑤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ntinue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结束本次循环语句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⑥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break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中止执行ｓｗｉｔｃｈ或循环语句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⑦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witch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多分支选择语句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⑧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goto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转向语句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⑨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return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从函数返回语句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政环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为什么要读书？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9999ff"/>
                </a:solidFill>
                <a:uFillTx/>
                <a:latin typeface="Verdana"/>
                <a:ea typeface="宋体"/>
                <a:hlinkClick r:id="rId1"/>
              </a:rPr>
              <a:t>“卡脖子”的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Verdana"/>
                <a:ea typeface="宋体"/>
                <a:hlinkClick r:id="rId2"/>
              </a:rPr>
              <a:t>35</a:t>
            </a:r>
            <a:r>
              <a:rPr b="0" lang="zh-CN" sz="2400" spc="-1" strike="noStrike" u="sng">
                <a:solidFill>
                  <a:srgbClr val="9999ff"/>
                </a:solidFill>
                <a:uFillTx/>
                <a:latin typeface="Verdana"/>
                <a:ea typeface="宋体"/>
                <a:hlinkClick r:id="rId3"/>
              </a:rPr>
              <a:t>项关键技术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9999ff"/>
                </a:solidFill>
                <a:uFillTx/>
                <a:latin typeface="Verdana"/>
                <a:ea typeface="宋体"/>
                <a:hlinkClick r:id="rId4"/>
              </a:rPr>
              <a:t>美国如何靠软件，卡住脖子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5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454" name="图片 5" descr=""/>
          <p:cNvPicPr/>
          <p:nvPr/>
        </p:nvPicPr>
        <p:blipFill>
          <a:blip r:embed="rId5"/>
          <a:stretch/>
        </p:blipFill>
        <p:spPr>
          <a:xfrm>
            <a:off x="1457280" y="2781360"/>
            <a:ext cx="62294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执行语句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2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函数和流对象调用语句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ort(x,y,z);      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假设已定义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or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函数，它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个参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x&lt;&lt;endl;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流对象调用语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表达式语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=i+1;                        /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是一个赋值语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.3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赋值语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赋值语句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的赋值号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一个运算符，可以写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=b=c=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，赋值表达式可以包括在其他表达式之中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f((a=b)&gt;0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a&gt;0″&lt;&lt;end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.4 C++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输入与输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4009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C++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的输入与输出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输入和输出并不是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中的正式组成成分，而是在编译系统提供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库中定义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中，通过调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canf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rintf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函数实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，通过调用流对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i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：来自设备或传给设备的一系列字节序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输出流对象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&lt;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插入运算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将要输出的内容插入到输出流中，默认的输出设备是显示器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i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输入流对象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&gt;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提取运算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从默认的输入设备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一般为键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的输入流中提取若干字节送到计算机内存中指定的变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6:44:19Z</dcterms:created>
  <dc:creator>Guorui Li</dc:creator>
  <dc:description/>
  <dc:language>en-US</dc:language>
  <cp:lastModifiedBy>GuoruiLi</cp:lastModifiedBy>
  <dcterms:modified xsi:type="dcterms:W3CDTF">2023-10-11T10:46:46Z</dcterms:modified>
  <cp:revision>728</cp:revision>
  <dc:subject/>
  <dc:title>PowerPoint Template</dc:title>
</cp:coreProperties>
</file>