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158C-EBFE-4531-80DF-BF6C6E10DF0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s://blog.csdn.net/Allen_Spring/article/details/125890237" TargetMode="External"/><Relationship Id="rId2" Type="http://schemas.openxmlformats.org/officeDocument/2006/relationships/hyperlink" Target="https://blog.csdn.net/Allen_Spring/article/details/125890237" TargetMode="External"/><Relationship Id="rId3" Type="http://schemas.openxmlformats.org/officeDocument/2006/relationships/slide" Target="../slides/slide4.xml"/><Relationship Id="rId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(2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条消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) dou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loa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o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占几个字节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河西剑客的博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CSD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博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_floa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占多少个字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5F02-DBD8-452B-8E56-79F0A0B70750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E4F-D098-4299-9275-379A5182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F418-EE85-4C66-B68D-9F37AB95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F16-115B-4536-A4FF-824EAF1D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432-0D88-43C7-8421-F70B4FA6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9899-C195-45E2-97FF-46452419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A087-B4FD-4934-9ECD-A66E3B44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717D-06CD-4E43-9A83-1C2CB393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EC4-560C-4018-8271-90A0A39E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92F5-7B21-412A-9B28-4DFA0FFD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F25-BFD7-434F-9C97-9C067263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D28-B0BF-4192-8AAE-FE68F8B9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398-95C9-4CDF-B260-56B27389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3" descr="배너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10555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4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" name="Freeform 35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Line 36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516360" y="-360"/>
            <a:ext cx="2514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.Net</a:t>
            </a:r>
            <a:r>
              <a:rPr b="1" lang="zh-CN" sz="1200" spc="-1" strike="noStrike">
                <a:solidFill>
                  <a:srgbClr val="000000"/>
                </a:solidFill>
                <a:latin typeface="Verdana"/>
                <a:ea typeface="굴림"/>
              </a:rPr>
              <a:t>程序设计基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276720" y="65084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6F54-D4E3-48D9-97EA-9949FB7F9A74}" type="slidenum">
              <a:rPr b="1" lang="ko-KR" sz="1400" spc="-1" strike="noStrike">
                <a:solidFill>
                  <a:srgbClr val="000000"/>
                </a:solidFill>
                <a:latin typeface="Verdan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1" descr="SW이미지_2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32"/>
          <p:cNvGrpSpPr/>
          <p:nvPr/>
        </p:nvGrpSpPr>
        <p:grpSpPr>
          <a:xfrm>
            <a:off x="28440" y="4653000"/>
            <a:ext cx="9115560" cy="2205000"/>
            <a:chOff x="28440" y="4653000"/>
            <a:chExt cx="9115560" cy="2205000"/>
          </a:xfrm>
        </p:grpSpPr>
        <p:sp>
          <p:nvSpPr>
            <p:cNvPr id="47" name="Rectangle 33"/>
            <p:cNvSpPr/>
            <p:nvPr/>
          </p:nvSpPr>
          <p:spPr>
            <a:xfrm>
              <a:off x="28440" y="4653000"/>
              <a:ext cx="9115560" cy="220500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8" name="Rectangle 34"/>
            <p:cNvSpPr/>
            <p:nvPr/>
          </p:nvSpPr>
          <p:spPr>
            <a:xfrm>
              <a:off x="28440" y="4653000"/>
              <a:ext cx="9115560" cy="12564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9" name="Rectangle 35"/>
          <p:cNvSpPr/>
          <p:nvPr/>
        </p:nvSpPr>
        <p:spPr>
          <a:xfrm>
            <a:off x="0" y="0"/>
            <a:ext cx="9144000" cy="22860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50" name="Group 36"/>
          <p:cNvGrpSpPr/>
          <p:nvPr/>
        </p:nvGrpSpPr>
        <p:grpSpPr>
          <a:xfrm>
            <a:off x="0" y="4289040"/>
            <a:ext cx="9097920" cy="676800"/>
            <a:chOff x="0" y="4289040"/>
            <a:chExt cx="9097920" cy="676800"/>
          </a:xfrm>
        </p:grpSpPr>
        <p:sp>
          <p:nvSpPr>
            <p:cNvPr id="51" name="Freeform 37"/>
            <p:cNvSpPr/>
            <p:nvPr/>
          </p:nvSpPr>
          <p:spPr>
            <a:xfrm flipV="1">
              <a:off x="0" y="4288320"/>
              <a:ext cx="9097920" cy="577800"/>
            </a:xfrm>
            <a:custGeom>
              <a:avLst/>
              <a:gdLst/>
              <a:ahLst/>
              <a:rect l="l" t="t" r="r" b="b"/>
              <a:pathLst>
                <a:path w="5731" h="808">
                  <a:moveTo>
                    <a:pt x="0" y="0"/>
                  </a:moveTo>
                  <a:lnTo>
                    <a:pt x="19" y="279"/>
                  </a:lnTo>
                  <a:cubicBezTo>
                    <a:pt x="321" y="399"/>
                    <a:pt x="1170" y="671"/>
                    <a:pt x="1824" y="739"/>
                  </a:cubicBezTo>
                  <a:cubicBezTo>
                    <a:pt x="2478" y="808"/>
                    <a:pt x="3295" y="769"/>
                    <a:pt x="3946" y="695"/>
                  </a:cubicBezTo>
                  <a:cubicBezTo>
                    <a:pt x="4597" y="621"/>
                    <a:pt x="5435" y="387"/>
                    <a:pt x="5731" y="297"/>
                  </a:cubicBezTo>
                  <a:lnTo>
                    <a:pt x="5722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2" name="Freeform 38"/>
            <p:cNvSpPr/>
            <p:nvPr/>
          </p:nvSpPr>
          <p:spPr>
            <a:xfrm flipV="1">
              <a:off x="0" y="4363560"/>
              <a:ext cx="9097920" cy="60192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53" name="Group 39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4" name="AutoShape 40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5" name="Freeform 41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6" name="Freeform 42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7" name="Freeform 43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8" name="Freeform 44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59" name="Text Box 29"/>
          <p:cNvSpPr/>
          <p:nvPr/>
        </p:nvSpPr>
        <p:spPr>
          <a:xfrm>
            <a:off x="429120" y="26028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NEUQ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仿宋"/>
              </a:rPr>
              <a:t>C++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仿宋"/>
              </a:rPr>
              <a:t>程序设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03280" y="5127480"/>
            <a:ext cx="640872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华文楷体"/>
              </a:rPr>
              <a:t>李国瑞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lgr@mail.neuq.edu.cn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数值常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型常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浮点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形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即浮点形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其一般形式为：</a:t>
            </a:r>
            <a:r>
              <a:rPr b="1" lang="zh-CN" sz="2000" spc="-1" strike="noStrike">
                <a:solidFill>
                  <a:srgbClr val="1d528d"/>
                </a:solidFill>
                <a:latin typeface="Verdana"/>
                <a:ea typeface="宋体"/>
              </a:rPr>
              <a:t>数符  数字部分  指数部分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由于指数部分的存在，使得同一个浮点数可以用不同的指数形式来表示，数字部分中小数点的位置是浮动的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注意：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字母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e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前后要有数字，且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e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后的指数必须为整数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例如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3e2.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e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e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不合法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编译系统把浮点数一律按双精度常量处理，在内存中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个字节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浮点数在内存中的存放形式：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37" name="Picture 3" descr="图2"/>
          <p:cNvPicPr/>
          <p:nvPr/>
        </p:nvPicPr>
        <p:blipFill>
          <a:blip r:embed="rId1"/>
          <a:stretch/>
        </p:blipFill>
        <p:spPr>
          <a:xfrm>
            <a:off x="2987640" y="5589720"/>
            <a:ext cx="3602160" cy="76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字符常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普通的字符常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单撇号括起来的一个字符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如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’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#’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%’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D’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都是合法的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B’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 ”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是不合法的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字符常量只包括一个字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字符常量区分大小写字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撇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’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定界符，不是字符常量的一部分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字符常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转义字符常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 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\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头的字符序列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\n’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表示换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这种“控制字符”，在屏幕上是不能显示的。在程序中也无法用一个一般形式的字符表示，只能采用特殊形式来表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\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头的转义字符虽然包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多个字符，但它只代表一个字符，在内存中只占一个字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4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468360" y="1201680"/>
            <a:ext cx="8351640" cy="532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字符数据和整型数据的互操作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一个字符常量存放到内存单元时，实际上并不是把该字符本身放到内存单元中去，而是将该字符相应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代码放到存储单元中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注意字符数据只占一个字节，它只能存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~25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范围内的整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51" name="Picture 3" descr="图2"/>
          <p:cNvPicPr/>
          <p:nvPr/>
        </p:nvPicPr>
        <p:blipFill>
          <a:blip r:embed="rId1"/>
          <a:stretch/>
        </p:blipFill>
        <p:spPr>
          <a:xfrm>
            <a:off x="2771640" y="4076640"/>
            <a:ext cx="3276720" cy="20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.1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将字符赋给整型变量。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{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 i,j;                    //i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j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是整型变量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=′A′;              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将一个字符常量赋给整型变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j=′B′;              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将一个字符常量赋给整型变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j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&lt;&lt;i&lt;&lt;′ ′&lt;&lt;j&lt;&lt;′\n′;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输出整型变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j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的值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｝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5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.2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字符数据与整数进行算术运算。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clude &lt;iostream&gt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{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har c1,c2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1=′a′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2=′b′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1=c1-32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2=c2-32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&lt;&lt;c1&lt;&lt;′ ′&lt;&lt;c2&lt;&lt;endl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5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字符串常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双撇号括起来的部分就是字符串常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bc″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ello!″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+b″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Li-ping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编译系统会在字符串最后自动加一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\0′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为字符串结束标志。但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\0′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并不是字符串的一部分，它只作为字符串的结束标志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abc″&lt;&lt;end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输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字符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而不包括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\0′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字符串常量要用字符数组来存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61" name="Picture 3" descr="图2"/>
          <p:cNvPicPr/>
          <p:nvPr/>
        </p:nvPicPr>
        <p:blipFill>
          <a:blip r:embed="rId1"/>
          <a:stretch/>
        </p:blipFill>
        <p:spPr>
          <a:xfrm>
            <a:off x="3419640" y="4941720"/>
            <a:ext cx="1488960" cy="5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注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har c;              /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定义一个字符变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=′a′;               /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确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=″a″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错误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只能容纳一个字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字符串常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bc\n″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含几个字符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abc\\\n″&lt;&lt;endl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I say \″Thank you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\″\n″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We must study C\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 hard!″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符号常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了编程和阅读的方便，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程序设计中，常用一个符号名代表一个常量，称为符号常量，即以标识符形式出现的常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3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符号常量的使用。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#define PRICE 30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注意这不是语句，末尾不要加分号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main (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{ int nu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ot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um=1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otal=num * PRIC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total=″&lt;&lt;total&lt;&lt;end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755640" y="2276640"/>
            <a:ext cx="77724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528d"/>
                </a:solidFill>
                <a:latin typeface="Verdana"/>
                <a:ea typeface="宋体"/>
              </a:rPr>
              <a:t>第</a:t>
            </a:r>
            <a:r>
              <a:rPr b="1" lang="en-US" sz="3600" spc="-1" strike="noStrike">
                <a:solidFill>
                  <a:srgbClr val="1d528d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1d528d"/>
                </a:solidFill>
                <a:latin typeface="Verdana"/>
                <a:ea typeface="宋体"/>
              </a:rPr>
              <a:t>章 数据类型与表达式</a:t>
            </a:r>
            <a:endParaRPr b="0" lang="en-US" sz="36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符号常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符号常量虽然有名字，但它不是变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进行编译预处理时，所有符号常量会被替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含义清楚，不提倡在程序中使用直接常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需要改变一个常量时能做到“一改全改”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3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变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变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程序运行期间其值可以改变的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个变量应该有一个名字，并在内存中占据一定的存储单元，在该存储单元中存放变量的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变量名必须遵循标识符的命名规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74" name="Picture 4" descr="图2"/>
          <p:cNvPicPr/>
          <p:nvPr/>
        </p:nvPicPr>
        <p:blipFill>
          <a:blip r:embed="rId1"/>
          <a:stretch/>
        </p:blipFill>
        <p:spPr>
          <a:xfrm>
            <a:off x="3203640" y="3284640"/>
            <a:ext cx="2514600" cy="14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标识符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来标识变量、符号常量、函数、数组、类型等实体名字的有效字符序列称为标识符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dentifier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。简单地说，标识符就是一个名字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规定标识符只能由字母、数字和下划线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种字符组成，且第一个字符必须为字母或下划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合法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um, average, total, day, month, Student_name, tan, BASIC, li_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法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.D.John, $123, #33, 3G64, Ling li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, Zhang-ling, U.S.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注意：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，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大写字母和小写字母被认为是两个不同的字符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因此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um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UM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两个不同的变量名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地，变量名用小写字母表示，以增加可读性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变量名不能与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的关键字、系统函数名和类名相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没有规定标识符的长度（字符个数），但各个具体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编译系统都有自己的规定。有的系统取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字符，超过的字符不被识别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习惯命名法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Coun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匈牙利命名法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tudentNam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骆驼命名法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umberOfStuden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帕斯卡命名法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定义变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定义，后使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变量类型  变量名列表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loat a,b,c,d,e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以在定义变量时指定它的初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loat a=83.5,b,c=64.5,d=81.2,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变量强制定义的目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证程序中变量名使用得正确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编译时就能为其分配相应的存储单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编译时据此检查该变量所进行的运算是否合法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要求变量的定义应该放在所有的执行语句之前，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则放松了限制，只要求在第一次使用该变量之前进行定义即可。也就是说，它可以出现在语句的中间，如：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nt a;            /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定义变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使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之前定义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=3;              /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执行语句，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赋值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loat b;          /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定义变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使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之前定义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=4.67;           /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执行语句，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赋值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har c;           /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定义变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使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之前定义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=′A′;           /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执行语句 ，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赋值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8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为变量赋初值 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允许在定义变量时对它赋予一个初值，这称为变量初始化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nt a=3;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相当于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nt a; a=3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值可以是常量，也可以是一个有确定值的表达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cmath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loat a,b=5.78*3.5,c=2*sin(2.0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对变量未赋初值，则该变量的初值是一个不可预测的值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ut&lt;&lt;a&lt;&lt;″ ″&lt;&lt;b&lt;&lt;″ ″&lt;&lt;c&lt;&lt;end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48544e-38  15  1.81858 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次运行情况不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为变量赋初值 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对多个变量赋予同一初值，必须分别指定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不能写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loat a=b=c=4.5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而应写成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loat a=4.5,b=4.5,c=4.5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loat a,b,c=4.5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=b=c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23640" y="1371600"/>
            <a:ext cx="85690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常变量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只读变量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)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定义变量时，如果加上关键字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ns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变量的值在程序运行期间不能改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nst int a=3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定义常变量时必须同时对它初始化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即指定其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此后它的值不能再改变。常变量不能出现在赋值号的左边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nst int 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=3;          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变量不能被赋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符号常量和常变量的区别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4 C++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运算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C++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的运算符十分丰富，运算十分灵活方便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1)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算术运算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-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 *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 /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除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  %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整除求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++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自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 --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自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2)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关系运算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于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于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＝＝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等于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＞＝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于或等于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＜＝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于或等于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！＝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不等于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３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逻辑运算符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＆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逻辑与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 ||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逻辑或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逻辑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４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位运算符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&lt;&lt;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位左移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  &gt;&gt;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位右移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位与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  |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位或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     ∧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位异或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  ~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位取反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５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赋值运算符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＝及其扩展赋值运算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６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条件运算符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?: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1 C++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数据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数据类型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是以某种特定的形式存在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6" descr="C:\Users\Guorui\AppData\Roaming\Tencent\Users\112063574\QQ\WinTemp\RichOle\4Z35SI26SZJMDHO(F0W@[W8.jpg"/>
          <p:cNvPicPr/>
          <p:nvPr/>
        </p:nvPicPr>
        <p:blipFill>
          <a:blip r:embed="rId1"/>
          <a:stretch/>
        </p:blipFill>
        <p:spPr>
          <a:xfrm>
            <a:off x="857160" y="2214720"/>
            <a:ext cx="478656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运算符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7)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逗号运算符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8)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针运算符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9)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引用运算符和地址运算符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＆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10)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求字节数运算符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zeof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11)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强制类型转换运算符（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类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类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 )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12)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成员运算符 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13)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向成员的运算符 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&gt;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14)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标运算符 （［ ］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15)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其他 （如函数调用运算符（）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5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算术运算符与算术表达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基本的算术运算符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加法运算符，或正值运算符。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+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3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减法运算符，或负值运算符。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-2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3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*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乘法运算符。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*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除法运算符。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/3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模运算符，或称求余运算符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侧均应为整型数据，如７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%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４的值为３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个整数相除的结果为整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除数或被除数中有一个为负值，则舍入的方向是不固定的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采用“向零取整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95280" y="1371600"/>
            <a:ext cx="842472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算术表达式和运算符的优先级与结合性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算术运算符和括号将运算对象（常量、变量、函数等）连接起来的、符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法规则的式子，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算术表达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*b/c-1.5+′a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优先级与结合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按运算符的优先级别高低次序执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在一个运算对象两侧的运算符的优先级别相同，则按规定的“结合方向”处理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算术运算符的结合方向为“自左至右”，即“左结合性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71600"/>
            <a:ext cx="83628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表达式中各类数值型数据间的混合运算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进行运算时，不同类型的数据要先转换成同一类型，然后进行运算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横向箭头表示必定的转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纵向的箭头表示运算对象为不同类型时转换的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11" name="Picture 4" descr="图2"/>
          <p:cNvPicPr/>
          <p:nvPr/>
        </p:nvPicPr>
        <p:blipFill>
          <a:blip r:embed="rId1"/>
          <a:stretch/>
        </p:blipFill>
        <p:spPr>
          <a:xfrm>
            <a:off x="3203640" y="3716280"/>
            <a:ext cx="2666880" cy="25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371600"/>
            <a:ext cx="84009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自增和自减运算符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i 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使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之前，先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值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i   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使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之前，先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值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++ 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使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之后，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值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--   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使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之后，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值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1) 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自增运算符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(++)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和自减运算符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宋体"/>
              </a:rPr>
              <a:t>(--)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只能用于变量，而不能用于常量或表达式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2) 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的结合方向是“自右至左” 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自增运算符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和自减运算符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使用十分灵活，但在很多情况下可能出现歧义性，产生“意想不到”的副作用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4)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自增（减）运算符常用于循环语句和指针变量操作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例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=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ut&lt;&lt;++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ut&lt;&lt;i++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i+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-i)++   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(i++)   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25360"/>
            <a:ext cx="83628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强制类型转换运算符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用强制类型转换运算符将一个表达式转换成所需类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型名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)(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表达式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)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语法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double)a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转换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double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类型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int)(x+y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+y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的值转换成整型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float)(5%3)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%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的值转换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floa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型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类型名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表达式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)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语法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(x)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(x+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如果要进行强制类型转换的对象是一个变量，该变量可以不用括号括起来。如果要进行强制类型转换的对象是一个包含多项的表达式，则表达式应该用括号括起来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在强制类型转换时，得到一个所需类型的中间变量，但原来变量的类型未发生变化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.4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强制类型转换。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main( )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{ float x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 i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=3.6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=(int)x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x=″&lt;&lt;x&lt;&lt;″,i=″&lt;&lt; i&lt;&lt;endl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隐式类型转换、强制类型转换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2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6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赋值运算符与赋值表达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赋值运算符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将一个数据赋给一个变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赋值过程中的类型转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如果赋值运算符两侧的类型不一致，但都是数值型或字符型时，在赋值时会自动进行类型转换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1)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将浮点型数据（包括单、双精度）赋给整型变量时，舍弃其小数部分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2)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将整型数据赋给浮点型变量时，数值不变，但以指数形式存储到变量中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将一个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double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型数据赋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floa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变量时，要注意数值范围不能溢出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4)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字符型数据赋给整型变量，将字符的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SCII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码赋给整型变量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赋值运算符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赋值过程中的类型转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(5)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将一个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hor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lon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型数据赋给一个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har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型变量，只将其低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位原封不动地送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har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型变量（发生截断）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hort int i=289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har c;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=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6)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igned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有符号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型数据赋给长度相同的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unsigned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无符号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型变量，将存储单元内容原样照搬（连原有的符号位也作为数值一起传送）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30" name="Picture 3" descr="图2"/>
          <p:cNvPicPr/>
          <p:nvPr/>
        </p:nvPicPr>
        <p:blipFill>
          <a:blip r:embed="rId1"/>
          <a:stretch/>
        </p:blipFill>
        <p:spPr>
          <a:xfrm>
            <a:off x="3924360" y="2997360"/>
            <a:ext cx="3095640" cy="11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数值型和字符型数据的字节数和数值表示范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14240" y="1643040"/>
          <a:ext cx="7643880" cy="4389480"/>
        </p:xfrm>
        <a:graphic>
          <a:graphicData uri="http://schemas.openxmlformats.org/drawingml/2006/table">
            <a:tbl>
              <a:tblPr/>
              <a:tblGrid>
                <a:gridCol w="1781280"/>
                <a:gridCol w="2184480"/>
                <a:gridCol w="728640"/>
                <a:gridCol w="2949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类型标识符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字节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数值范围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整型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signed] in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2147483648~+2147483647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符号整型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unsigned [int]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~4294967295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短整型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hort [int]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32768~32767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符号短整型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unsigned short [int]</a:t>
                      </a:r>
                      <a:endParaRPr b="0" lang="en-US" sz="17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~65535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整型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ong [int]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47483648~2147483647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符号长整型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unsigned long [int]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~4294967295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字符型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signed] char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128~127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符号字符型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unsigned char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~255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精度型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3.4×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8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 3.4×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8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双精度型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1.7×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8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 3.4×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8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双精度型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ong doub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1.7×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8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 3.4×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8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.5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将有符号数据传送给无符号变量。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#include &lt;iostream&gt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using namespace std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main( )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{ unsigned short a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hort in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b=-1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=b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&lt;&lt;″a=″&lt;&lt;a&lt;&lt;endl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return 0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}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3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34" name="Picture 3" descr="图2"/>
          <p:cNvPicPr/>
          <p:nvPr/>
        </p:nvPicPr>
        <p:blipFill>
          <a:blip r:embed="rId1"/>
          <a:stretch/>
        </p:blipFill>
        <p:spPr>
          <a:xfrm>
            <a:off x="4211640" y="4941720"/>
            <a:ext cx="4248000" cy="143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复合的赋值运算符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赋值符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之前加上其他运算符，可以构成复合的运算符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宋体"/>
              </a:rPr>
              <a:t>a+=3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价于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宋体"/>
              </a:rPr>
              <a:t>a=a+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宋体"/>
              </a:rPr>
              <a:t>x*=y+8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价于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宋体"/>
              </a:rPr>
              <a:t>x=x*(y+8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宋体"/>
              </a:rPr>
              <a:t>x%=3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价于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宋体"/>
              </a:rPr>
              <a:t>x=x%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凡是二元（二目）运算符，都可以与赋值符一起组合成复合赋值符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以使用以下几种复合赋值运算符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＋＝，－＝，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＝，／＝，％＝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&lt;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＝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&gt;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＝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amp;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＝，∧＝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|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+= b      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其中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变量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表达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a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= b      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有下划线的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+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移到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=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右侧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 = a + b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=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侧补上变量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       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，如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包含若干项的表达式，则相当于它有括号。如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 %= y+3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②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x %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= (y+3)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 = x%(y+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要错认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=x%y+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4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241" name="Picture 3" descr="jt"/>
          <p:cNvPicPr/>
          <p:nvPr/>
        </p:nvPicPr>
        <p:blipFill>
          <a:blip r:embed="rId1"/>
          <a:stretch/>
        </p:blipFill>
        <p:spPr>
          <a:xfrm>
            <a:off x="1441440" y="2271600"/>
            <a:ext cx="609480" cy="2937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jt"/>
          <p:cNvPicPr/>
          <p:nvPr/>
        </p:nvPicPr>
        <p:blipFill>
          <a:blip r:embed="rId2"/>
          <a:stretch/>
        </p:blipFill>
        <p:spPr>
          <a:xfrm>
            <a:off x="1658880" y="4797360"/>
            <a:ext cx="609480" cy="2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赋值表达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赋值运算符将一个变量和一个表达式连接起来的式子称为“赋值表达式”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变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 &lt;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赋值运算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 &lt;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达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赋值表达式中的“表达式”，又可以是一个赋值表达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=b=c=5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=5+(c=6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=(b=4)+(c=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=(b=10)/(c=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=12; a+=a-=a*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语句输出一个赋值表达式的值时，要将该赋值表达式用括号括起来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&lt;&lt;(a=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7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逗号运算符与逗号表达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逗号运算符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顺序求值运算符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  <a:ea typeface="宋体"/>
              </a:rPr>
              <a:t>)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将多个表达式连接起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达式１，表达式２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求解表达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再求解表达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整个逗号表达式的值是表达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值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=3*5,a*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达式１，表达式２，表达式３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表达式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逗号运算符是所有运算符中级别最低的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①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=(a=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*3)     ②  x=a=3,6*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u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输出一个逗号表达式的值时，要将该逗号表达式用括号括起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ut&lt;&lt;(3*5,43-6*5,67/3)&lt;&lt;end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.Net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基础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50" name="文本框 6"/>
          <p:cNvSpPr/>
          <p:nvPr/>
        </p:nvSpPr>
        <p:spPr>
          <a:xfrm>
            <a:off x="914400" y="635040"/>
            <a:ext cx="75452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言程序是从源文件的第一条语句开始执行的。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51" name="文本框 7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rue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52" name="文本框 8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alse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53" name="椭圆 11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54" name="椭圆 12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55" name="矩形: 圆角 15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256" name="组合 20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257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58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59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60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261" name="图片 5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页脚占位符 1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.Net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基础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63" name="文本框 4"/>
          <p:cNvSpPr/>
          <p:nvPr/>
        </p:nvSpPr>
        <p:spPr>
          <a:xfrm>
            <a:off x="914400" y="6350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C </a:t>
            </a: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语言的标识符由字母、数字和其他任意字符组成。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64" name="文本框 5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rue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65" name="文本框 6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alse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66" name="椭圆 9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67" name="椭圆 10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68" name="矩形: 圆角 13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269" name="组合 18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270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71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72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73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274" name="图片 3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页脚占位符 1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.Net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基础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76" name="文本框 4"/>
          <p:cNvSpPr/>
          <p:nvPr/>
        </p:nvSpPr>
        <p:spPr>
          <a:xfrm>
            <a:off x="914400" y="6350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言中，数字字符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'1'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值（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SCII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码）就是数字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77" name="文本框 5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rue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78" name="文本框 6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alse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79" name="椭圆 9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80" name="椭圆 10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81" name="矩形: 圆角 13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282" name="组合 18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283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84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85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86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287" name="图片 3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页脚占位符 1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.Net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基础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914400" y="6350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言中，大小写字母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'A'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'B'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'C'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'Z'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'a'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'b'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'c'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'z'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SCII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码按升序连续排列。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90" name="文本框 5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rue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alse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92" name="椭圆 9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93" name="椭圆 10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94" name="矩形: 圆角 13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295" name="组合 18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296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97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98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99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300" name="图片 3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页脚占位符 1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.Net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基础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2" name="文本框 4"/>
          <p:cNvSpPr/>
          <p:nvPr/>
        </p:nvSpPr>
        <p:spPr>
          <a:xfrm>
            <a:off x="914400" y="6350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以下标识符中，不合法的是（ ）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3" name="文本框 5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d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4" name="文本框 6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_8_d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5" name="文本框 7"/>
          <p:cNvSpPr/>
          <p:nvPr/>
        </p:nvSpPr>
        <p:spPr>
          <a:xfrm>
            <a:off x="1828800" y="450072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Int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6" name="文本框 8"/>
          <p:cNvSpPr/>
          <p:nvPr/>
        </p:nvSpPr>
        <p:spPr>
          <a:xfrm>
            <a:off x="1828800" y="535788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key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7" name="椭圆 9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8" name="椭圆 10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9" name="椭圆 11"/>
          <p:cNvSpPr/>
          <p:nvPr/>
        </p:nvSpPr>
        <p:spPr>
          <a:xfrm>
            <a:off x="1114560" y="456408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10" name="椭圆 12"/>
          <p:cNvSpPr/>
          <p:nvPr/>
        </p:nvSpPr>
        <p:spPr>
          <a:xfrm>
            <a:off x="1114560" y="542124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11" name="矩形: 圆角 13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312" name="组合 18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313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14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15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16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317" name="图片 3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说明：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没有规定每一种数据所占的字节数，只要求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hort  &lt;=  int  &lt;=  l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整型数据的存储方式为按二进制数形式存储，如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整型和字符型类型前，可以加修饰符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igned(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示“有符号”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unsigned(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示“无符号”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若指定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igned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则存储单元中的最高位用来表示数值的符号。若指定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unsigned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则数值没有符号，全部二进制位都用来表示数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20" name="Picture 3" descr="图2"/>
          <p:cNvPicPr/>
          <p:nvPr/>
        </p:nvPicPr>
        <p:blipFill>
          <a:blip r:embed="rId1"/>
          <a:stretch/>
        </p:blipFill>
        <p:spPr>
          <a:xfrm>
            <a:off x="1571760" y="3268800"/>
            <a:ext cx="5929200" cy="59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页脚占位符 1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.Net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基础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19" name="文本框 4"/>
          <p:cNvSpPr/>
          <p:nvPr/>
        </p:nvSpPr>
        <p:spPr>
          <a:xfrm>
            <a:off x="914400" y="6350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表达式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__</a:t>
            </a: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的值是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0</a:t>
            </a: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20" name="文本框 5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%5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21" name="文本框 6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/5.0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22" name="文本框 7"/>
          <p:cNvSpPr/>
          <p:nvPr/>
        </p:nvSpPr>
        <p:spPr>
          <a:xfrm>
            <a:off x="1828800" y="450072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/5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23" name="文本框 8"/>
          <p:cNvSpPr/>
          <p:nvPr/>
        </p:nvSpPr>
        <p:spPr>
          <a:xfrm>
            <a:off x="1828800" y="535788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&lt;5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24" name="椭圆 9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25" name="椭圆 10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26" name="椭圆 11"/>
          <p:cNvSpPr/>
          <p:nvPr/>
        </p:nvSpPr>
        <p:spPr>
          <a:xfrm>
            <a:off x="1114560" y="456408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27" name="椭圆 12"/>
          <p:cNvSpPr/>
          <p:nvPr/>
        </p:nvSpPr>
        <p:spPr>
          <a:xfrm>
            <a:off x="1114560" y="542124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28" name="矩形: 圆角 13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329" name="组合 18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330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31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32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33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334" name="图片 3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页脚占位符 1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.Net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基础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36" name="文本框 4"/>
          <p:cNvSpPr/>
          <p:nvPr/>
        </p:nvSpPr>
        <p:spPr>
          <a:xfrm>
            <a:off x="914400" y="6350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设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x,i,j,k</a:t>
            </a: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都是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int</a:t>
            </a: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变量，表达式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x=(i=4,j=16,k=32); </a:t>
            </a: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计算后，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x</a:t>
            </a: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的值为</a:t>
            </a:r>
            <a:r>
              <a:rPr b="0" lang="zh-CN" sz="2800" spc="-1" strike="noStrike">
                <a:solidFill>
                  <a:srgbClr val="639ef4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639ef4"/>
                </a:solidFill>
                <a:latin typeface="Times New Roman"/>
                <a:ea typeface="宋体"/>
              </a:rPr>
              <a:t>[</a:t>
            </a:r>
            <a:r>
              <a:rPr b="0" lang="zh-CN" sz="2800" spc="-1" strike="noStrike">
                <a:solidFill>
                  <a:srgbClr val="639ef4"/>
                </a:solidFill>
                <a:latin typeface="Times New Roman"/>
                <a:ea typeface="宋体"/>
              </a:rPr>
              <a:t>填空</a:t>
            </a:r>
            <a:r>
              <a:rPr b="0" lang="en-US" sz="2800" spc="-1" strike="noStrike">
                <a:solidFill>
                  <a:srgbClr val="639ef4"/>
                </a:solidFill>
                <a:latin typeface="Times New Roman"/>
                <a:ea typeface="宋体"/>
              </a:rPr>
              <a:t>1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37" name="矩形: 圆角 5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答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38" name="矩形 11"/>
          <p:cNvSpPr/>
          <p:nvPr/>
        </p:nvSpPr>
        <p:spPr>
          <a:xfrm>
            <a:off x="0" y="5850000"/>
            <a:ext cx="9144000" cy="365040"/>
          </a:xfrm>
          <a:prstGeom prst="rect">
            <a:avLst/>
          </a:prstGeom>
          <a:solidFill>
            <a:srgbClr val="fbfa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84f41"/>
                </a:solidFill>
                <a:latin typeface="微软雅黑"/>
                <a:ea typeface="微软雅黑"/>
              </a:rPr>
              <a:t>正常使用填空题需</a:t>
            </a:r>
            <a:r>
              <a:rPr b="0" lang="en-US" sz="1200" spc="-1" strike="noStrike">
                <a:solidFill>
                  <a:srgbClr val="f84f41"/>
                </a:solidFill>
                <a:latin typeface="微软雅黑"/>
                <a:ea typeface="微软雅黑"/>
              </a:rPr>
              <a:t>3.0</a:t>
            </a:r>
            <a:r>
              <a:rPr b="0" lang="zh-CN" sz="1200" spc="-1" strike="noStrike">
                <a:solidFill>
                  <a:srgbClr val="f84f41"/>
                </a:solidFill>
                <a:latin typeface="微软雅黑"/>
                <a:ea typeface="微软雅黑"/>
              </a:rPr>
              <a:t>以上版本雨课堂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339" name="组合 10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340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41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42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填空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43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344" name="图片 3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页脚占位符 1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.Net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基础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46" name="文本框 4"/>
          <p:cNvSpPr/>
          <p:nvPr/>
        </p:nvSpPr>
        <p:spPr>
          <a:xfrm>
            <a:off x="914400" y="6350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定义：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double x=3.5,y=3.2;</a:t>
            </a: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则表达式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(int)x*0.5</a:t>
            </a:r>
            <a:r>
              <a:rPr b="0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的值是</a:t>
            </a:r>
            <a:r>
              <a:rPr b="0" lang="zh-CN" sz="2800" spc="-1" strike="noStrike">
                <a:solidFill>
                  <a:srgbClr val="639ef4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639ef4"/>
                </a:solidFill>
                <a:latin typeface="Times New Roman"/>
                <a:ea typeface="宋体"/>
              </a:rPr>
              <a:t>[</a:t>
            </a:r>
            <a:r>
              <a:rPr b="0" lang="zh-CN" sz="2800" spc="-1" strike="noStrike">
                <a:solidFill>
                  <a:srgbClr val="639ef4"/>
                </a:solidFill>
                <a:latin typeface="Times New Roman"/>
                <a:ea typeface="宋体"/>
              </a:rPr>
              <a:t>填空</a:t>
            </a:r>
            <a:r>
              <a:rPr b="0" lang="en-US" sz="2800" spc="-1" strike="noStrike">
                <a:solidFill>
                  <a:srgbClr val="639ef4"/>
                </a:solidFill>
                <a:latin typeface="Times New Roman"/>
                <a:ea typeface="宋体"/>
              </a:rPr>
              <a:t>1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47" name="矩形: 圆角 5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答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48" name="矩形 11"/>
          <p:cNvSpPr/>
          <p:nvPr/>
        </p:nvSpPr>
        <p:spPr>
          <a:xfrm>
            <a:off x="0" y="5850000"/>
            <a:ext cx="9144000" cy="365040"/>
          </a:xfrm>
          <a:prstGeom prst="rect">
            <a:avLst/>
          </a:prstGeom>
          <a:solidFill>
            <a:srgbClr val="fbfa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84f41"/>
                </a:solidFill>
                <a:latin typeface="微软雅黑"/>
                <a:ea typeface="微软雅黑"/>
              </a:rPr>
              <a:t>正常使用填空题需</a:t>
            </a:r>
            <a:r>
              <a:rPr b="0" lang="en-US" sz="1200" spc="-1" strike="noStrike">
                <a:solidFill>
                  <a:srgbClr val="f84f41"/>
                </a:solidFill>
                <a:latin typeface="微软雅黑"/>
                <a:ea typeface="微软雅黑"/>
              </a:rPr>
              <a:t>3.0</a:t>
            </a:r>
            <a:r>
              <a:rPr b="0" lang="zh-CN" sz="1200" spc="-1" strike="noStrike">
                <a:solidFill>
                  <a:srgbClr val="f84f41"/>
                </a:solidFill>
                <a:latin typeface="微软雅黑"/>
                <a:ea typeface="微软雅黑"/>
              </a:rPr>
              <a:t>以上版本雨课堂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349" name="组合 10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350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51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52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填空题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53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354" name="图片 3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5003640" y="2349360"/>
            <a:ext cx="3745080" cy="3816000"/>
            <a:chOff x="5003640" y="2349360"/>
            <a:chExt cx="3745080" cy="3816000"/>
          </a:xfrm>
        </p:grpSpPr>
        <p:sp>
          <p:nvSpPr>
            <p:cNvPr id="357" name="AutoShape 5"/>
            <p:cNvSpPr/>
            <p:nvPr/>
          </p:nvSpPr>
          <p:spPr>
            <a:xfrm>
              <a:off x="5003640" y="2354760"/>
              <a:ext cx="3745080" cy="3764520"/>
            </a:xfrm>
            <a:custGeom>
              <a:avLst/>
              <a:gdLst>
                <a:gd name="textAreaLeft" fmla="*/ 548640 w 3745080"/>
                <a:gd name="textAreaRight" fmla="*/ 3196440 w 3745080"/>
                <a:gd name="textAreaTop" fmla="*/ 551160 h 3764520"/>
                <a:gd name="textAreaBottom" fmla="*/ 3213360 h 376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0" y="10800"/>
                  </a:moveTo>
                  <a:cubicBezTo>
                    <a:pt x="320" y="16588"/>
                    <a:pt x="5012" y="21280"/>
                    <a:pt x="10800" y="21280"/>
                  </a:cubicBezTo>
                  <a:cubicBezTo>
                    <a:pt x="16588" y="21280"/>
                    <a:pt x="21280" y="16588"/>
                    <a:pt x="21280" y="10800"/>
                  </a:cubicBezTo>
                  <a:cubicBezTo>
                    <a:pt x="21280" y="5012"/>
                    <a:pt x="16588" y="320"/>
                    <a:pt x="10800" y="320"/>
                  </a:cubicBezTo>
                  <a:cubicBezTo>
                    <a:pt x="5012" y="320"/>
                    <a:pt x="320" y="5012"/>
                    <a:pt x="320" y="1080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58" name="Freeform 6"/>
            <p:cNvSpPr/>
            <p:nvPr/>
          </p:nvSpPr>
          <p:spPr>
            <a:xfrm>
              <a:off x="5563080" y="5423400"/>
              <a:ext cx="447120" cy="34200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59" name="Freeform 7"/>
            <p:cNvSpPr/>
            <p:nvPr/>
          </p:nvSpPr>
          <p:spPr>
            <a:xfrm>
              <a:off x="6202080" y="3521520"/>
              <a:ext cx="577800" cy="264384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643840"/>
                <a:gd name="textAreaBottom" fmla="*/ 2644200 h 2643840"/>
              </a:gdLst>
              <a:ahLst/>
              <a:rect l="textAreaLeft" t="textAreaTop" r="textAreaRight" b="textAreaBottom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0" name="Freeform 8"/>
            <p:cNvSpPr/>
            <p:nvPr/>
          </p:nvSpPr>
          <p:spPr>
            <a:xfrm>
              <a:off x="6701040" y="3476880"/>
              <a:ext cx="590040" cy="2574720"/>
            </a:xfrm>
            <a:custGeom>
              <a:avLst/>
              <a:gdLst>
                <a:gd name="textAreaLeft" fmla="*/ 0 w 590040"/>
                <a:gd name="textAreaRight" fmla="*/ 590400 w 590040"/>
                <a:gd name="textAreaTop" fmla="*/ 0 h 2574720"/>
                <a:gd name="textAreaBottom" fmla="*/ 2575080 h 2574720"/>
              </a:gdLst>
              <a:ahLst/>
              <a:rect l="textAreaLeft" t="textAreaTop" r="textAreaRight" b="textAreaBottom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1" name="Freeform 9"/>
            <p:cNvSpPr/>
            <p:nvPr/>
          </p:nvSpPr>
          <p:spPr>
            <a:xfrm>
              <a:off x="7041240" y="3276000"/>
              <a:ext cx="825120" cy="2663640"/>
            </a:xfrm>
            <a:custGeom>
              <a:avLst/>
              <a:gdLst>
                <a:gd name="textAreaLeft" fmla="*/ 0 w 825120"/>
                <a:gd name="textAreaRight" fmla="*/ 825480 w 825120"/>
                <a:gd name="textAreaTop" fmla="*/ 0 h 2663640"/>
                <a:gd name="textAreaBottom" fmla="*/ 2664000 h 2663640"/>
              </a:gdLst>
              <a:ahLst/>
              <a:rect l="textAreaLeft" t="textAreaTop" r="textAreaRight" b="textAreaBottom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2" name="Freeform 10"/>
            <p:cNvSpPr/>
            <p:nvPr/>
          </p:nvSpPr>
          <p:spPr>
            <a:xfrm>
              <a:off x="7910640" y="3559320"/>
              <a:ext cx="465120" cy="209520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2095200"/>
                <a:gd name="textAreaBottom" fmla="*/ 2095560 h 2095200"/>
              </a:gdLst>
              <a:ahLst/>
              <a:rect l="textAreaLeft" t="textAreaTop" r="textAreaRight" b="textAreaBottom"/>
              <a:pathLst>
                <a:path w="338" h="1494">
                  <a:moveTo>
                    <a:pt x="26" y="73"/>
                  </a:moveTo>
                  <a:cubicBezTo>
                    <a:pt x="43" y="102"/>
                    <a:pt x="93" y="88"/>
                    <a:pt x="136" y="194"/>
                  </a:cubicBezTo>
                  <a:cubicBezTo>
                    <a:pt x="179" y="300"/>
                    <a:pt x="258" y="552"/>
                    <a:pt x="282" y="706"/>
                  </a:cubicBezTo>
                  <a:cubicBezTo>
                    <a:pt x="306" y="860"/>
                    <a:pt x="293" y="1016"/>
                    <a:pt x="282" y="1118"/>
                  </a:cubicBezTo>
                  <a:cubicBezTo>
                    <a:pt x="271" y="1220"/>
                    <a:pt x="243" y="1260"/>
                    <a:pt x="218" y="1319"/>
                  </a:cubicBezTo>
                  <a:cubicBezTo>
                    <a:pt x="193" y="1378"/>
                    <a:pt x="134" y="1456"/>
                    <a:pt x="132" y="1475"/>
                  </a:cubicBezTo>
                  <a:cubicBezTo>
                    <a:pt x="130" y="1494"/>
                    <a:pt x="176" y="1485"/>
                    <a:pt x="206" y="1433"/>
                  </a:cubicBezTo>
                  <a:cubicBezTo>
                    <a:pt x="235" y="1381"/>
                    <a:pt x="290" y="1257"/>
                    <a:pt x="312" y="1163"/>
                  </a:cubicBezTo>
                  <a:cubicBezTo>
                    <a:pt x="334" y="1069"/>
                    <a:pt x="338" y="962"/>
                    <a:pt x="337" y="871"/>
                  </a:cubicBezTo>
                  <a:cubicBezTo>
                    <a:pt x="336" y="780"/>
                    <a:pt x="336" y="735"/>
                    <a:pt x="309" y="615"/>
                  </a:cubicBezTo>
                  <a:cubicBezTo>
                    <a:pt x="282" y="495"/>
                    <a:pt x="218" y="248"/>
                    <a:pt x="172" y="149"/>
                  </a:cubicBezTo>
                  <a:cubicBezTo>
                    <a:pt x="126" y="50"/>
                    <a:pt x="58" y="36"/>
                    <a:pt x="34" y="23"/>
                  </a:cubicBezTo>
                  <a:cubicBezTo>
                    <a:pt x="10" y="10"/>
                    <a:pt x="0" y="0"/>
                    <a:pt x="26" y="73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3" name="Freeform 11"/>
            <p:cNvSpPr/>
            <p:nvPr/>
          </p:nvSpPr>
          <p:spPr>
            <a:xfrm>
              <a:off x="5553720" y="4203000"/>
              <a:ext cx="788040" cy="1809360"/>
            </a:xfrm>
            <a:custGeom>
              <a:avLst/>
              <a:gdLst>
                <a:gd name="textAreaLeft" fmla="*/ 0 w 788040"/>
                <a:gd name="textAreaRight" fmla="*/ 788400 w 788040"/>
                <a:gd name="textAreaTop" fmla="*/ 0 h 1809360"/>
                <a:gd name="textAreaBottom" fmla="*/ 1809720 h 1809360"/>
              </a:gdLst>
              <a:ahLst/>
              <a:rect l="textAreaLeft" t="textAreaTop" r="textAreaRight" b="textAreaBottom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4" name="Freeform 12"/>
            <p:cNvSpPr/>
            <p:nvPr/>
          </p:nvSpPr>
          <p:spPr>
            <a:xfrm>
              <a:off x="6903720" y="2514600"/>
              <a:ext cx="901080" cy="269280"/>
            </a:xfrm>
            <a:custGeom>
              <a:avLst/>
              <a:gdLst>
                <a:gd name="textAreaLeft" fmla="*/ 0 w 901080"/>
                <a:gd name="textAreaRight" fmla="*/ 901440 w 90108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5" name="Freeform 13"/>
            <p:cNvSpPr/>
            <p:nvPr/>
          </p:nvSpPr>
          <p:spPr>
            <a:xfrm>
              <a:off x="7112520" y="2890440"/>
              <a:ext cx="693000" cy="114480"/>
            </a:xfrm>
            <a:custGeom>
              <a:avLst/>
              <a:gdLst>
                <a:gd name="textAreaLeft" fmla="*/ 0 w 693000"/>
                <a:gd name="textAreaRight" fmla="*/ 693360 w 693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6" name="Freeform 14"/>
            <p:cNvSpPr/>
            <p:nvPr/>
          </p:nvSpPr>
          <p:spPr>
            <a:xfrm>
              <a:off x="6728760" y="2349360"/>
              <a:ext cx="280440" cy="34632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7" name="Freeform 15"/>
            <p:cNvSpPr/>
            <p:nvPr/>
          </p:nvSpPr>
          <p:spPr>
            <a:xfrm>
              <a:off x="6468840" y="2384280"/>
              <a:ext cx="92160" cy="40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8" name="Freeform 16"/>
            <p:cNvSpPr/>
            <p:nvPr/>
          </p:nvSpPr>
          <p:spPr>
            <a:xfrm>
              <a:off x="5732640" y="3535560"/>
              <a:ext cx="2320920" cy="851400"/>
            </a:xfrm>
            <a:custGeom>
              <a:avLst/>
              <a:gdLst>
                <a:gd name="textAreaLeft" fmla="*/ 0 w 2320920"/>
                <a:gd name="textAreaRight" fmla="*/ 2321280 w 2320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69" name="Freeform 17"/>
            <p:cNvSpPr/>
            <p:nvPr/>
          </p:nvSpPr>
          <p:spPr>
            <a:xfrm>
              <a:off x="5153400" y="3729240"/>
              <a:ext cx="3544200" cy="1541160"/>
            </a:xfrm>
            <a:custGeom>
              <a:avLst/>
              <a:gdLst>
                <a:gd name="textAreaLeft" fmla="*/ 0 w 3544200"/>
                <a:gd name="textAreaRight" fmla="*/ 3544560 w 3544200"/>
                <a:gd name="textAreaTop" fmla="*/ 0 h 1541160"/>
                <a:gd name="textAreaBottom" fmla="*/ 1541520 h 1541160"/>
              </a:gdLst>
              <a:ahLst/>
              <a:rect l="textAreaLeft" t="textAreaTop" r="textAreaRight" b="textAreaBottom"/>
              <a:pathLst>
                <a:path w="2876" h="1226">
                  <a:moveTo>
                    <a:pt x="53" y="779"/>
                  </a:moveTo>
                  <a:cubicBezTo>
                    <a:pt x="1" y="724"/>
                    <a:pt x="0" y="741"/>
                    <a:pt x="62" y="788"/>
                  </a:cubicBezTo>
                  <a:cubicBezTo>
                    <a:pt x="124" y="835"/>
                    <a:pt x="283" y="1001"/>
                    <a:pt x="428" y="1062"/>
                  </a:cubicBezTo>
                  <a:cubicBezTo>
                    <a:pt x="573" y="1123"/>
                    <a:pt x="747" y="1142"/>
                    <a:pt x="931" y="1153"/>
                  </a:cubicBezTo>
                  <a:cubicBezTo>
                    <a:pt x="1115" y="1164"/>
                    <a:pt x="1331" y="1167"/>
                    <a:pt x="1534" y="1126"/>
                  </a:cubicBezTo>
                  <a:cubicBezTo>
                    <a:pt x="1737" y="1085"/>
                    <a:pt x="1969" y="1006"/>
                    <a:pt x="2147" y="907"/>
                  </a:cubicBezTo>
                  <a:cubicBezTo>
                    <a:pt x="2325" y="808"/>
                    <a:pt x="2486" y="672"/>
                    <a:pt x="2600" y="532"/>
                  </a:cubicBezTo>
                  <a:cubicBezTo>
                    <a:pt x="2714" y="392"/>
                    <a:pt x="2790" y="130"/>
                    <a:pt x="2833" y="65"/>
                  </a:cubicBezTo>
                  <a:cubicBezTo>
                    <a:pt x="2876" y="0"/>
                    <a:pt x="2868" y="93"/>
                    <a:pt x="2860" y="139"/>
                  </a:cubicBezTo>
                  <a:cubicBezTo>
                    <a:pt x="2852" y="185"/>
                    <a:pt x="2830" y="260"/>
                    <a:pt x="2787" y="340"/>
                  </a:cubicBezTo>
                  <a:cubicBezTo>
                    <a:pt x="2744" y="420"/>
                    <a:pt x="2707" y="515"/>
                    <a:pt x="2600" y="622"/>
                  </a:cubicBezTo>
                  <a:cubicBezTo>
                    <a:pt x="2493" y="729"/>
                    <a:pt x="2320" y="892"/>
                    <a:pt x="2146" y="985"/>
                  </a:cubicBezTo>
                  <a:cubicBezTo>
                    <a:pt x="1972" y="1078"/>
                    <a:pt x="1752" y="1142"/>
                    <a:pt x="1553" y="1181"/>
                  </a:cubicBezTo>
                  <a:cubicBezTo>
                    <a:pt x="1354" y="1220"/>
                    <a:pt x="1135" y="1226"/>
                    <a:pt x="949" y="1217"/>
                  </a:cubicBezTo>
                  <a:cubicBezTo>
                    <a:pt x="763" y="1208"/>
                    <a:pt x="571" y="1172"/>
                    <a:pt x="437" y="1126"/>
                  </a:cubicBezTo>
                  <a:cubicBezTo>
                    <a:pt x="303" y="1080"/>
                    <a:pt x="209" y="1001"/>
                    <a:pt x="145" y="943"/>
                  </a:cubicBezTo>
                  <a:cubicBezTo>
                    <a:pt x="81" y="885"/>
                    <a:pt x="72" y="813"/>
                    <a:pt x="53" y="779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70" name="Freeform 18"/>
            <p:cNvSpPr/>
            <p:nvPr/>
          </p:nvSpPr>
          <p:spPr>
            <a:xfrm>
              <a:off x="5944680" y="4891680"/>
              <a:ext cx="2697840" cy="990360"/>
            </a:xfrm>
            <a:custGeom>
              <a:avLst/>
              <a:gdLst>
                <a:gd name="textAreaLeft" fmla="*/ 0 w 2697840"/>
                <a:gd name="textAreaRight" fmla="*/ 2698200 w 26978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89" h="788">
                  <a:moveTo>
                    <a:pt x="7" y="650"/>
                  </a:moveTo>
                  <a:cubicBezTo>
                    <a:pt x="14" y="642"/>
                    <a:pt x="49" y="683"/>
                    <a:pt x="143" y="695"/>
                  </a:cubicBezTo>
                  <a:cubicBezTo>
                    <a:pt x="237" y="707"/>
                    <a:pt x="430" y="725"/>
                    <a:pt x="572" y="722"/>
                  </a:cubicBezTo>
                  <a:cubicBezTo>
                    <a:pt x="714" y="719"/>
                    <a:pt x="833" y="716"/>
                    <a:pt x="993" y="676"/>
                  </a:cubicBezTo>
                  <a:cubicBezTo>
                    <a:pt x="1153" y="636"/>
                    <a:pt x="1377" y="560"/>
                    <a:pt x="1532" y="484"/>
                  </a:cubicBezTo>
                  <a:cubicBezTo>
                    <a:pt x="1687" y="408"/>
                    <a:pt x="1820" y="298"/>
                    <a:pt x="1925" y="219"/>
                  </a:cubicBezTo>
                  <a:cubicBezTo>
                    <a:pt x="2030" y="140"/>
                    <a:pt x="2137" y="18"/>
                    <a:pt x="2163" y="9"/>
                  </a:cubicBezTo>
                  <a:cubicBezTo>
                    <a:pt x="2189" y="0"/>
                    <a:pt x="2125" y="112"/>
                    <a:pt x="2081" y="164"/>
                  </a:cubicBezTo>
                  <a:cubicBezTo>
                    <a:pt x="2037" y="216"/>
                    <a:pt x="1992" y="254"/>
                    <a:pt x="1898" y="320"/>
                  </a:cubicBezTo>
                  <a:cubicBezTo>
                    <a:pt x="1804" y="386"/>
                    <a:pt x="1657" y="489"/>
                    <a:pt x="1514" y="558"/>
                  </a:cubicBezTo>
                  <a:cubicBezTo>
                    <a:pt x="1371" y="627"/>
                    <a:pt x="1193" y="693"/>
                    <a:pt x="1039" y="731"/>
                  </a:cubicBezTo>
                  <a:cubicBezTo>
                    <a:pt x="885" y="769"/>
                    <a:pt x="748" y="784"/>
                    <a:pt x="591" y="786"/>
                  </a:cubicBezTo>
                  <a:cubicBezTo>
                    <a:pt x="434" y="788"/>
                    <a:pt x="195" y="764"/>
                    <a:pt x="98" y="741"/>
                  </a:cubicBezTo>
                  <a:cubicBezTo>
                    <a:pt x="1" y="718"/>
                    <a:pt x="0" y="658"/>
                    <a:pt x="7" y="65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71" name="Freeform 19"/>
            <p:cNvSpPr/>
            <p:nvPr/>
          </p:nvSpPr>
          <p:spPr>
            <a:xfrm>
              <a:off x="6941880" y="2628000"/>
              <a:ext cx="1751400" cy="1426320"/>
            </a:xfrm>
            <a:custGeom>
              <a:avLst/>
              <a:gdLst>
                <a:gd name="textAreaLeft" fmla="*/ 0 w 1751400"/>
                <a:gd name="textAreaRight" fmla="*/ 1751760 w 1751400"/>
                <a:gd name="textAreaTop" fmla="*/ 0 h 1426320"/>
                <a:gd name="textAreaBottom" fmla="*/ 1426680 h 1426320"/>
              </a:gdLst>
              <a:ahLst/>
              <a:rect l="textAreaLeft" t="textAreaTop" r="textAreaRight" b="textAreaBottom"/>
              <a:pathLst>
                <a:path w="1421" h="1134">
                  <a:moveTo>
                    <a:pt x="287" y="273"/>
                  </a:moveTo>
                  <a:lnTo>
                    <a:pt x="287" y="318"/>
                  </a:lnTo>
                  <a:lnTo>
                    <a:pt x="253" y="336"/>
                  </a:lnTo>
                  <a:lnTo>
                    <a:pt x="259" y="294"/>
                  </a:lnTo>
                  <a:lnTo>
                    <a:pt x="223" y="318"/>
                  </a:lnTo>
                  <a:lnTo>
                    <a:pt x="214" y="384"/>
                  </a:lnTo>
                  <a:lnTo>
                    <a:pt x="154" y="396"/>
                  </a:lnTo>
                  <a:lnTo>
                    <a:pt x="121" y="423"/>
                  </a:lnTo>
                  <a:lnTo>
                    <a:pt x="85" y="423"/>
                  </a:lnTo>
                  <a:lnTo>
                    <a:pt x="79" y="387"/>
                  </a:lnTo>
                  <a:lnTo>
                    <a:pt x="46" y="387"/>
                  </a:lnTo>
                  <a:lnTo>
                    <a:pt x="46" y="420"/>
                  </a:lnTo>
                  <a:lnTo>
                    <a:pt x="13" y="426"/>
                  </a:lnTo>
                  <a:lnTo>
                    <a:pt x="15" y="454"/>
                  </a:lnTo>
                  <a:lnTo>
                    <a:pt x="60" y="454"/>
                  </a:lnTo>
                  <a:lnTo>
                    <a:pt x="151" y="454"/>
                  </a:lnTo>
                  <a:lnTo>
                    <a:pt x="105" y="545"/>
                  </a:lnTo>
                  <a:lnTo>
                    <a:pt x="46" y="561"/>
                  </a:lnTo>
                  <a:cubicBezTo>
                    <a:pt x="30" y="571"/>
                    <a:pt x="16" y="588"/>
                    <a:pt x="10" y="603"/>
                  </a:cubicBezTo>
                  <a:cubicBezTo>
                    <a:pt x="4" y="618"/>
                    <a:pt x="0" y="639"/>
                    <a:pt x="7" y="654"/>
                  </a:cubicBezTo>
                  <a:lnTo>
                    <a:pt x="49" y="693"/>
                  </a:lnTo>
                  <a:lnTo>
                    <a:pt x="46" y="753"/>
                  </a:lnTo>
                  <a:lnTo>
                    <a:pt x="76" y="762"/>
                  </a:lnTo>
                  <a:lnTo>
                    <a:pt x="85" y="795"/>
                  </a:lnTo>
                  <a:lnTo>
                    <a:pt x="46" y="792"/>
                  </a:lnTo>
                  <a:lnTo>
                    <a:pt x="16" y="822"/>
                  </a:lnTo>
                  <a:lnTo>
                    <a:pt x="121" y="837"/>
                  </a:lnTo>
                  <a:lnTo>
                    <a:pt x="196" y="801"/>
                  </a:lnTo>
                  <a:lnTo>
                    <a:pt x="166" y="975"/>
                  </a:lnTo>
                  <a:lnTo>
                    <a:pt x="82" y="1068"/>
                  </a:lnTo>
                  <a:cubicBezTo>
                    <a:pt x="65" y="1093"/>
                    <a:pt x="49" y="1116"/>
                    <a:pt x="67" y="1125"/>
                  </a:cubicBezTo>
                  <a:cubicBezTo>
                    <a:pt x="85" y="1134"/>
                    <a:pt x="101" y="1124"/>
                    <a:pt x="118" y="1101"/>
                  </a:cubicBezTo>
                  <a:lnTo>
                    <a:pt x="193" y="957"/>
                  </a:lnTo>
                  <a:lnTo>
                    <a:pt x="241" y="862"/>
                  </a:lnTo>
                  <a:lnTo>
                    <a:pt x="287" y="862"/>
                  </a:lnTo>
                  <a:lnTo>
                    <a:pt x="295" y="816"/>
                  </a:lnTo>
                  <a:lnTo>
                    <a:pt x="256" y="792"/>
                  </a:lnTo>
                  <a:lnTo>
                    <a:pt x="250" y="732"/>
                  </a:lnTo>
                  <a:lnTo>
                    <a:pt x="287" y="726"/>
                  </a:lnTo>
                  <a:lnTo>
                    <a:pt x="287" y="771"/>
                  </a:lnTo>
                  <a:lnTo>
                    <a:pt x="400" y="696"/>
                  </a:lnTo>
                  <a:cubicBezTo>
                    <a:pt x="454" y="684"/>
                    <a:pt x="550" y="687"/>
                    <a:pt x="610" y="696"/>
                  </a:cubicBezTo>
                  <a:cubicBezTo>
                    <a:pt x="670" y="705"/>
                    <a:pt x="728" y="734"/>
                    <a:pt x="763" y="753"/>
                  </a:cubicBezTo>
                  <a:cubicBezTo>
                    <a:pt x="798" y="772"/>
                    <a:pt x="801" y="784"/>
                    <a:pt x="820" y="810"/>
                  </a:cubicBezTo>
                  <a:lnTo>
                    <a:pt x="877" y="908"/>
                  </a:lnTo>
                  <a:lnTo>
                    <a:pt x="967" y="998"/>
                  </a:lnTo>
                  <a:lnTo>
                    <a:pt x="925" y="906"/>
                  </a:lnTo>
                  <a:cubicBezTo>
                    <a:pt x="930" y="900"/>
                    <a:pt x="904" y="939"/>
                    <a:pt x="997" y="963"/>
                  </a:cubicBezTo>
                  <a:cubicBezTo>
                    <a:pt x="1090" y="987"/>
                    <a:pt x="1170" y="1000"/>
                    <a:pt x="1228" y="1011"/>
                  </a:cubicBezTo>
                  <a:lnTo>
                    <a:pt x="1348" y="1029"/>
                  </a:lnTo>
                  <a:lnTo>
                    <a:pt x="1375" y="998"/>
                  </a:lnTo>
                  <a:lnTo>
                    <a:pt x="1300" y="960"/>
                  </a:lnTo>
                  <a:lnTo>
                    <a:pt x="1421" y="953"/>
                  </a:lnTo>
                  <a:lnTo>
                    <a:pt x="1336" y="785"/>
                  </a:lnTo>
                  <a:cubicBezTo>
                    <a:pt x="1307" y="722"/>
                    <a:pt x="1273" y="630"/>
                    <a:pt x="1244" y="575"/>
                  </a:cubicBezTo>
                  <a:cubicBezTo>
                    <a:pt x="1166" y="463"/>
                    <a:pt x="1188" y="486"/>
                    <a:pt x="1162" y="456"/>
                  </a:cubicBezTo>
                  <a:lnTo>
                    <a:pt x="1107" y="383"/>
                  </a:lnTo>
                  <a:lnTo>
                    <a:pt x="1007" y="227"/>
                  </a:lnTo>
                  <a:lnTo>
                    <a:pt x="924" y="154"/>
                  </a:lnTo>
                  <a:lnTo>
                    <a:pt x="860" y="99"/>
                  </a:lnTo>
                  <a:lnTo>
                    <a:pt x="709" y="0"/>
                  </a:lnTo>
                  <a:lnTo>
                    <a:pt x="664" y="0"/>
                  </a:lnTo>
                  <a:lnTo>
                    <a:pt x="730" y="81"/>
                  </a:lnTo>
                  <a:lnTo>
                    <a:pt x="695" y="91"/>
                  </a:lnTo>
                  <a:lnTo>
                    <a:pt x="634" y="24"/>
                  </a:lnTo>
                  <a:lnTo>
                    <a:pt x="520" y="15"/>
                  </a:lnTo>
                  <a:lnTo>
                    <a:pt x="493" y="51"/>
                  </a:lnTo>
                  <a:lnTo>
                    <a:pt x="469" y="93"/>
                  </a:lnTo>
                  <a:lnTo>
                    <a:pt x="436" y="153"/>
                  </a:lnTo>
                  <a:lnTo>
                    <a:pt x="430" y="189"/>
                  </a:lnTo>
                  <a:lnTo>
                    <a:pt x="706" y="186"/>
                  </a:lnTo>
                  <a:lnTo>
                    <a:pt x="712" y="234"/>
                  </a:lnTo>
                  <a:lnTo>
                    <a:pt x="628" y="291"/>
                  </a:lnTo>
                  <a:lnTo>
                    <a:pt x="634" y="342"/>
                  </a:lnTo>
                  <a:lnTo>
                    <a:pt x="574" y="399"/>
                  </a:lnTo>
                  <a:lnTo>
                    <a:pt x="565" y="363"/>
                  </a:lnTo>
                  <a:lnTo>
                    <a:pt x="505" y="366"/>
                  </a:lnTo>
                  <a:cubicBezTo>
                    <a:pt x="481" y="359"/>
                    <a:pt x="448" y="339"/>
                    <a:pt x="423" y="318"/>
                  </a:cubicBezTo>
                  <a:lnTo>
                    <a:pt x="355" y="243"/>
                  </a:lnTo>
                  <a:lnTo>
                    <a:pt x="283" y="234"/>
                  </a:lnTo>
                  <a:lnTo>
                    <a:pt x="287" y="318"/>
                  </a:ln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72" name="Freeform 20"/>
            <p:cNvSpPr/>
            <p:nvPr/>
          </p:nvSpPr>
          <p:spPr>
            <a:xfrm>
              <a:off x="7230960" y="2639160"/>
              <a:ext cx="287640" cy="2635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73" name="Freeform 21"/>
            <p:cNvSpPr/>
            <p:nvPr/>
          </p:nvSpPr>
          <p:spPr>
            <a:xfrm>
              <a:off x="6728760" y="2566440"/>
              <a:ext cx="620280" cy="48816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74" name="Freeform 22"/>
            <p:cNvSpPr/>
            <p:nvPr/>
          </p:nvSpPr>
          <p:spPr>
            <a:xfrm>
              <a:off x="6831720" y="2447280"/>
              <a:ext cx="239400" cy="2185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75" name="Freeform 23"/>
            <p:cNvSpPr/>
            <p:nvPr/>
          </p:nvSpPr>
          <p:spPr>
            <a:xfrm>
              <a:off x="5003640" y="2457000"/>
              <a:ext cx="2008440" cy="2510640"/>
            </a:xfrm>
            <a:custGeom>
              <a:avLst/>
              <a:gdLst>
                <a:gd name="textAreaLeft" fmla="*/ 0 w 2008440"/>
                <a:gd name="textAreaRight" fmla="*/ 2008800 w 2008440"/>
                <a:gd name="textAreaTop" fmla="*/ 0 h 2510640"/>
                <a:gd name="textAreaBottom" fmla="*/ 2511000 h 2510640"/>
              </a:gdLst>
              <a:ahLst/>
              <a:rect l="textAreaLeft" t="textAreaTop" r="textAreaRight" b="textAreaBottom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76" name="Freeform 24"/>
            <p:cNvSpPr/>
            <p:nvPr/>
          </p:nvSpPr>
          <p:spPr>
            <a:xfrm>
              <a:off x="6321240" y="5680080"/>
              <a:ext cx="550080" cy="413640"/>
            </a:xfrm>
            <a:custGeom>
              <a:avLst/>
              <a:gdLst>
                <a:gd name="textAreaLeft" fmla="*/ 0 w 550080"/>
                <a:gd name="textAreaRight" fmla="*/ 550440 w 5500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446" h="329">
                  <a:moveTo>
                    <a:pt x="0" y="162"/>
                  </a:moveTo>
                  <a:lnTo>
                    <a:pt x="0" y="258"/>
                  </a:lnTo>
                  <a:lnTo>
                    <a:pt x="109" y="295"/>
                  </a:lnTo>
                  <a:lnTo>
                    <a:pt x="183" y="309"/>
                  </a:lnTo>
                  <a:lnTo>
                    <a:pt x="240" y="318"/>
                  </a:lnTo>
                  <a:lnTo>
                    <a:pt x="318" y="327"/>
                  </a:lnTo>
                  <a:lnTo>
                    <a:pt x="414" y="324"/>
                  </a:lnTo>
                  <a:cubicBezTo>
                    <a:pt x="432" y="319"/>
                    <a:pt x="446" y="329"/>
                    <a:pt x="427" y="295"/>
                  </a:cubicBezTo>
                  <a:cubicBezTo>
                    <a:pt x="408" y="261"/>
                    <a:pt x="389" y="265"/>
                    <a:pt x="382" y="250"/>
                  </a:cubicBezTo>
                  <a:lnTo>
                    <a:pt x="382" y="204"/>
                  </a:lnTo>
                  <a:lnTo>
                    <a:pt x="309" y="159"/>
                  </a:lnTo>
                  <a:cubicBezTo>
                    <a:pt x="298" y="140"/>
                    <a:pt x="333" y="144"/>
                    <a:pt x="315" y="90"/>
                  </a:cubicBezTo>
                  <a:cubicBezTo>
                    <a:pt x="297" y="36"/>
                    <a:pt x="266" y="53"/>
                    <a:pt x="255" y="57"/>
                  </a:cubicBezTo>
                  <a:lnTo>
                    <a:pt x="246" y="114"/>
                  </a:lnTo>
                  <a:lnTo>
                    <a:pt x="204" y="84"/>
                  </a:lnTo>
                  <a:lnTo>
                    <a:pt x="168" y="99"/>
                  </a:lnTo>
                  <a:lnTo>
                    <a:pt x="180" y="48"/>
                  </a:lnTo>
                  <a:cubicBezTo>
                    <a:pt x="171" y="38"/>
                    <a:pt x="135" y="0"/>
                    <a:pt x="111" y="36"/>
                  </a:cubicBezTo>
                  <a:cubicBezTo>
                    <a:pt x="87" y="72"/>
                    <a:pt x="104" y="89"/>
                    <a:pt x="109" y="114"/>
                  </a:cubicBezTo>
                  <a:lnTo>
                    <a:pt x="144" y="186"/>
                  </a:lnTo>
                  <a:lnTo>
                    <a:pt x="75" y="195"/>
                  </a:lnTo>
                  <a:lnTo>
                    <a:pt x="36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77" name="Freeform 25"/>
            <p:cNvSpPr/>
            <p:nvPr/>
          </p:nvSpPr>
          <p:spPr>
            <a:xfrm>
              <a:off x="6192360" y="5563800"/>
              <a:ext cx="543240" cy="18324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78" name="Freeform 26"/>
            <p:cNvSpPr/>
            <p:nvPr/>
          </p:nvSpPr>
          <p:spPr>
            <a:xfrm>
              <a:off x="5216400" y="4997160"/>
              <a:ext cx="184320" cy="2494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79" name="Freeform 27"/>
            <p:cNvSpPr/>
            <p:nvPr/>
          </p:nvSpPr>
          <p:spPr>
            <a:xfrm>
              <a:off x="5395320" y="4883400"/>
              <a:ext cx="109800" cy="3686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80" name="Freeform 28"/>
            <p:cNvSpPr/>
            <p:nvPr/>
          </p:nvSpPr>
          <p:spPr>
            <a:xfrm>
              <a:off x="5560560" y="4593240"/>
              <a:ext cx="354600" cy="31392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81" name="AutoShape 29"/>
            <p:cNvSpPr/>
            <p:nvPr/>
          </p:nvSpPr>
          <p:spPr>
            <a:xfrm rot="10800000">
              <a:off x="6065280" y="2685600"/>
              <a:ext cx="1117080" cy="855360"/>
            </a:xfrm>
            <a:custGeom>
              <a:avLst/>
              <a:gdLst>
                <a:gd name="textAreaLeft" fmla="*/ 163440 w 1117080"/>
                <a:gd name="textAreaRight" fmla="*/ 953640 w 1117080"/>
                <a:gd name="textAreaTop" fmla="*/ 124560 h 855360"/>
                <a:gd name="textAreaBottom" fmla="*/ 730800 h 85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92" y="10800"/>
                  </a:moveTo>
                  <a:cubicBezTo>
                    <a:pt x="1492" y="15941"/>
                    <a:pt x="5659" y="20108"/>
                    <a:pt x="10800" y="20108"/>
                  </a:cubicBezTo>
                  <a:cubicBezTo>
                    <a:pt x="15941" y="20108"/>
                    <a:pt x="20108" y="15941"/>
                    <a:pt x="20108" y="10800"/>
                  </a:cubicBezTo>
                  <a:cubicBezTo>
                    <a:pt x="20108" y="5659"/>
                    <a:pt x="15941" y="1492"/>
                    <a:pt x="10800" y="1492"/>
                  </a:cubicBezTo>
                  <a:cubicBezTo>
                    <a:pt x="5659" y="1492"/>
                    <a:pt x="1492" y="5659"/>
                    <a:pt x="1492" y="1080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382" name="Rectangle 30"/>
          <p:cNvSpPr/>
          <p:nvPr/>
        </p:nvSpPr>
        <p:spPr>
          <a:xfrm>
            <a:off x="1332000" y="2852640"/>
            <a:ext cx="6840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1d528d"/>
                </a:solidFill>
                <a:uFillTx/>
                <a:latin typeface="Verdana"/>
                <a:ea typeface="굴림"/>
              </a:rPr>
              <a:t>Thank </a:t>
            </a:r>
            <a:r>
              <a:rPr b="1" lang="en-US" sz="6000" spc="-1" strike="noStrike" u="sng">
                <a:solidFill>
                  <a:srgbClr val="2ca3c8"/>
                </a:solidFill>
                <a:uFillTx/>
                <a:latin typeface="Verdana"/>
                <a:ea typeface="굴림"/>
              </a:rPr>
              <a:t>You !</a:t>
            </a:r>
            <a:endParaRPr b="0" lang="en-US" sz="60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6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Visual C++ 6.0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loat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提供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位有效数字，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ouble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提供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位有效数字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中方括号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[ ]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为可选项，可以省写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24" name="Picture 3" descr="cj2"/>
          <p:cNvPicPr/>
          <p:nvPr/>
        </p:nvPicPr>
        <p:blipFill>
          <a:blip r:embed="rId1"/>
          <a:stretch/>
        </p:blipFill>
        <p:spPr>
          <a:xfrm>
            <a:off x="1835280" y="1484280"/>
            <a:ext cx="5257800" cy="25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2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常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程序运行过程中其值是不能改变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量类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数值常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即常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字符常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字符串常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符号常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-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为整型常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.6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-1.2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为实型常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’, ‘x’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为字符常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hina”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BM PC“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为字符串常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数值常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整型常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整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十进制整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57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-43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0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在一个整数后面加一个字母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则认为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long in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型常量。例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3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21L,0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进制整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数字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开头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02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是八进制数，它相当于十进制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十六进制整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数字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和字母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开头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0X2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表示这是十六进制数，它相当于十进制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数值常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型常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浮点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十进制小数形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1.456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-7.98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.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.06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数点是必须的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默认按双精度处理，在内存中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个字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如在实数之后加字母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F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f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表示此数为单精度浮点数，例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34F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-43f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在内存中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个字节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如果加字母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表示此数为长双精度数，在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Visual C++ 6.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中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个字节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形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即浮点形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.14159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可以表示为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0.314159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14.159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-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等形式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程序中表示为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0.314159e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14.159e-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굴림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굴림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6:44:19Z</dcterms:created>
  <dc:creator>Guorui Li</dc:creator>
  <dc:description/>
  <dc:language>en-US</dc:language>
  <cp:lastModifiedBy>GuoruiLi</cp:lastModifiedBy>
  <dcterms:modified xsi:type="dcterms:W3CDTF">2022-09-28T11:25:12Z</dcterms:modified>
  <cp:revision>674</cp:revision>
  <dc:subject/>
  <dc:title>PowerPoint Template</dc:title>
</cp:coreProperties>
</file>