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0164-D4F6-4563-A135-2FFDB6B08A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B328-CDF4-4115-9847-9CA5FE49EC20}" type="slidenum">
              <a:rPr b="0" lang="zh-CN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ttps://learn.microsoft.com/en-us/cpp/mfc/hierarchy-chart?view=msvc-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ttps://doc.qt.io/qt-5/hierarch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4B9A-0F99-420F-A6A9-695F86ACDBB8}" type="slidenum">
              <a:rPr b="0" lang="zh-CN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5AC-7BDA-4156-BBEA-622ADDF3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60A-3366-4374-AB38-27ABB9FE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B11-7263-491E-B2E3-5FA856AE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580-20E8-4C1D-902F-57FE7F8E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9D0-930F-424E-8CC7-A23DF358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AD4C-F621-4B6D-8213-F9C6B29F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C472-C826-47F1-B062-6F045E00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E1C3-904F-4E89-809C-0794F3AC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922A-76C6-4C90-A77C-E8014F8D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E052-3FC1-428B-B26E-7E69EB7B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EAB-7EBF-4814-A0D8-3CCD471C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FDE4-A211-4A80-A3F6-4DCFF00D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8C1B-AAB4-4D2A-97C0-974D593A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099C-D13C-4E51-BBEF-30759581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F4BF-5665-43C4-B101-526E8115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372B-E38B-4FC8-A011-7565FDD9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A842-B5B4-415B-83BF-0C92BC2A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3836-56E1-4CFE-A5E4-012375E8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767B-5DBD-4E55-95B0-EA87BB2C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24C-3B69-4B3D-BE34-0CDF25F6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7BB-42E8-48DF-83D4-5D723BE7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FF3-5E47-4C65-909B-E42F73F3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FEF-B5BD-4CF7-8F9C-AE05179F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B0E-F02C-4BB4-A709-A0923C9F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배너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" name="Freeform 35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Line 3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516360" y="-36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0151-C598-420C-B500-3BB3879F6EE1}" type="slidenum">
              <a:rPr b="1" lang="ko-KR" sz="14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1" descr="SW이미지_2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2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7" name="Rectangle 33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8" name="Rectangle 34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9" name="Rectangle 35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50" name="Group 36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1" name="Freeform 37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2" name="Freeform 38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53" name="Group 39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4" name="AutoShape 40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5" name="Freeform 41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6" name="Freeform 42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7" name="Freeform 43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8" name="Freeform 44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59" name="Text Box 29"/>
          <p:cNvSpPr/>
          <p:nvPr/>
        </p:nvSpPr>
        <p:spPr>
          <a:xfrm>
            <a:off x="429120" y="26028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NEUQ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3" descr="배너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0" name="Freeform 35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516360" y="-36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d528d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1d528d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8297-949A-4307-A475-935FAB0C001B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C++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굴림"/>
              </a:rPr>
              <a:t>程序设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03280" y="5127480"/>
            <a:ext cx="640872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华文楷体"/>
              </a:rPr>
              <a:t>李国瑞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lgr@mail.neuq.edu.cn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.3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用虚函数实现动态多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虚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虚函数的作用是允许在派生类中重新定义与基类同名的函数，并且可以通过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基类指针或引用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来访问基类和派生类中的同名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当把基类的某个成员函数声明为虚函数后，允许在其派生类中对该函数重新定义，赋予它新的功能，并且可以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通过指向基类的指针指向同一类族中不同类的对象，从而调用其中的同名函数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371600"/>
            <a:ext cx="822960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.2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类与派生类中有同名函数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string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Studen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(int, string,float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virtual void display( 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otected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num;    string name;      float score;   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::Student(int n, string nam,float s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num=n;name=nam;score=s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tudent::display( )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″num:″&lt;&lt;num&lt;&lt;″\\nname:″&lt;&lt;name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″\\nscore:″&lt;&lt;score&lt;&lt;″\\n\\n″;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8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14200" y="1371600"/>
            <a:ext cx="8715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Graduate:public Studen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Graduate(int, string, float, float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display( 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pay;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Graduate::display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″num:″&lt;&lt;num&lt;&lt;″\\nname:″&lt;&lt;name&lt;&lt;″\\nscore:″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score&lt;&lt;″\\npay=″&lt;&lt;pay&lt;&lt;endl;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Graduate::Graduate(int n, string nam,float s,float p):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(n,nam,s),pay(p){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8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Student stud1(1001,″Li″,87.5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Graduate grad1(2001,″Wang″,98.5,563.5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 *pt=&amp;stud1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t-&gt;display( 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t=&amp;grad1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t-&gt;display( 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8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虚函数的使用方法是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: 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基类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irtua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声明成员函数为虚函数。在类外定义虚函数时，不必再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irtua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派生类中重新定义此函数，要求函数原型与基类的虚函数相同，并根据派生类的需要重新定义函数体。在派生类重新声明该虚函数时可以加或不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irtua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定义一个指向基类对象的指针变量，并使它指向同一类族中需要调用该函数的对象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通过该指针变量调用此虚函数，此时调用的就是指针变量指向的对象的同名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9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函数重载与虚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函数重载处理的是同一层次上的同名函数问题，而虚函数处理的是不同派生层次上的同名函数问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者是横向重载，后者可以理解为纵向重载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同一类族的虚函数的首部是相同的，而函数重载时函数的首部是不同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参数个数或类型不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函数重载属于静态关联，虚函数属于动态关联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2560" y="1371600"/>
            <a:ext cx="90010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虚析构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.3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类中有虚析构函数时的执行情况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Poin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oint( ){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virtu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~Point() { cout&lt;&lt;″executing Point destructor″&lt;&lt;endl; } 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Circle:public Poin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rcle( ){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~Circle( ){ cout&lt;&lt;″executing Circle destructor″&lt;&lt;endl;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radius;  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9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371600"/>
            <a:ext cx="84009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oint *p=new Circl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elete 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将基类的析构函数声明为虚函数时，由该基类所派生的所有派生类的析构函数也都自动成为虚函数，即使派生类的析构函数与基类的析构函数名字不相同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都习惯声明虚析构函数，以保证在撤销动态分配空间时能得到正确的处理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构造函数不能声明为虚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9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.4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纯虚函数与抽象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纯虚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纯虚函数是在声明虚函数时被“初始化”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virtual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函数类型 函数名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参数表列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 =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纯虚函数没有函数体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最后面的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=0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并不表示函数返回值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它只起形式上的作用，告诉编译系统“这是纯虚函数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这是一个声明语句，最后应有分号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纯虚函数只有函数的名字而不具备函数的功能，不能被调用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纯虚函数的作用是在基类中为其派生类保留一个函数的名字，以便派生类根据需要对它进行定义，从而实现多态性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371600"/>
            <a:ext cx="84009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抽象类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用来定义对象而只作为一种基本类型用作继承的类，称为抽象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抽象基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凡是包含纯虚函数的类都是抽象类，其作用是作为一个类族的共同基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虽然抽象类不能定义对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说抽象类不能实例化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但是可以定义指向抽象类数据的指针变量。当派生类成为具体类之后，就可以用这种指针指向派生类对象，然后通过该指针调用虚函数，实现多态性的操作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55640" y="2276640"/>
            <a:ext cx="77724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528d"/>
                </a:solidFill>
                <a:latin typeface="Verdana"/>
                <a:ea typeface="宋体"/>
              </a:rPr>
              <a:t>第</a:t>
            </a:r>
            <a:r>
              <a:rPr b="1" lang="en-US" sz="3600" spc="-1" strike="noStrike">
                <a:solidFill>
                  <a:srgbClr val="1d528d"/>
                </a:solidFill>
                <a:latin typeface="Verdana"/>
                <a:ea typeface="宋体"/>
              </a:rPr>
              <a:t>12</a:t>
            </a:r>
            <a:r>
              <a:rPr b="1" lang="zh-CN" sz="3600" spc="-1" strike="noStrike">
                <a:solidFill>
                  <a:srgbClr val="1d528d"/>
                </a:solidFill>
                <a:latin typeface="Verdana"/>
                <a:ea typeface="宋体"/>
              </a:rPr>
              <a:t>章 多态性与虚函数</a:t>
            </a:r>
            <a:endParaRPr b="0" lang="en-US" sz="36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.4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虚函数和抽象基类的应用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Shape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irtual float area( ) const {  return 0.0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irtual float volume() const {  return 0.0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virtual void shapeName() const =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Point:public Shape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oint(float=0,float=0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etPoint(float,float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getX( ) const {  return x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getY( ) const {  return y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irtual void shapeName( ) const {cout&lt;&lt;″Point:”;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riend ostream &amp; operator&lt;&lt;(ostream &amp;,const Point &amp;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otected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x,y;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oint::Point(float a,float b)  {  x=a;y=b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Point::setPoint(float a,float b)  {  x=a;y=b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ostream &amp; operator&lt;&lt;(ostream &amp;output,const Point &amp;p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output&lt;&lt;″[″&lt;&lt;p.x&lt;&lt;″,″&lt;&lt;p.y&lt;&lt;″]″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output;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Circle:public Poin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rcle(float x=0,float y=0,float r=0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etRadius(float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getRadius( ) cons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irtual float area( ) cons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irtual void shapeName( ) const {cout&lt;&lt;″Circle:″;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riend ostream &amp;operator&lt;&lt;(ostream &amp;,const Circle &amp;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otected:     float radius;    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rcle::Circle(float a,float b,float r):Point(a,b),radius(r){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Circle::setRadius(float r):radius(r){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Circle::getRadius( ) const {return radius;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Circle::area( ) const {  return 3.14159*radius*radius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ostream &amp;operator&lt;&lt;(ostream &amp;output,const Circle &amp;c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output&lt;&lt;″[″&lt;&lt;c.x&lt;&lt;″,″&lt;&lt;c.y&lt;&lt;″], r=″&lt;&lt;c.radius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output;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Cylinder:public Circle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ylinder (float x=0,float y=0,float r=0,float h=0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etHeight(float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irtual float area( ) cons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irtual float volume( ) cons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irtual void shapeName( ) const {cout&lt;&lt;″Cylinder:″;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riend ostream&amp; operator&lt;&lt;(ostream&amp;,const Cylinder&amp;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otected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heigh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ylinder::Cylinder(float a,float b,float r,float h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:Circle(a,b,r),height(h){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Cylinder::setHeight(float h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height=h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Cylinder::area( ) cons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return 2*Circle::area( )+2*3.14159*radius*height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Cylinder::volume( ) cons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return Circle::area( )*height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ostream &amp;operator&lt;&lt;(ostream &amp;output,const Cylinder&amp; cy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output&lt;&lt;″[″&lt;&lt;cy.x&lt;&lt;″,″&lt;&lt;cy.y&lt;&lt;″], r=″&lt;&lt;cy.radius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″, h=″&lt;&lt;cy.heigh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outpu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2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oint point(3.2,4.5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rcle circle(2.4,1.2,5.6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ylinder cylinder(3.5,6.4,5.2,10.5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oint.shapeName();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point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rcle.shapeName();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circle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ylinder.shapeName(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cylinder&lt;&lt;endl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hape *pt;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t=&amp;point;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t-&gt;shapeName( );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x=″&lt;&lt;point.getX( )&lt;&lt;″,y=″&lt;&lt;point.getY( )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″\\narea=″&lt;&lt;pt-&gt;area( )&lt;&lt;″\\nvolume=″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pt-&gt;volume()&lt;&lt;″\\n\\n″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2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t=&amp;circle;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t-&gt;shapeName( 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x=″&lt;&lt;circle.getX( )&lt;&lt;″,y=″&lt;&lt;circle.getY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″\\narea=″&lt;&lt;pt-&gt;area( )&lt;&lt;″\\nvolume=″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pt-&gt;volume( )&lt;&lt;″\\n\\n″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t=&amp;cylinder;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t-&gt;shapeName( );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x=″&lt;&lt;cylinder.getX( )&lt;&lt;″,y=″&lt;&lt;cylinder.getY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″\\narea=″&lt;&lt;pt-&gt;area( )&lt;&lt;″\\nvolume=″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pt-&gt;volume( )&lt;&lt;″\\n\\n″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2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14200" y="1371600"/>
            <a:ext cx="8715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结论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个基类如果包含一个或一个以上纯虚函数，就是抽象基类。抽象基类不能也不必要定义对象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抽象基类与普通基类不同，它一般并不是现实存在的对象的抽象，也没有任何物理上的或其他实际意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类的层次结构中，顶层或最上面的几层可以是抽象基类。抽象基类体现了本类族中各类的共性，把各类中共有的成员函数集中在抽象基类中声明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抽象基类是本类族的公共接口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区别静态关联和动态关联。使用对象或基类指针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纯虚函数如果不在派生类中显式定义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=0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为虚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虚函数提高程序的可扩展性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5003640" y="2349360"/>
            <a:ext cx="3745080" cy="3816000"/>
            <a:chOff x="5003640" y="2349360"/>
            <a:chExt cx="3745080" cy="3816000"/>
          </a:xfrm>
        </p:grpSpPr>
        <p:sp>
          <p:nvSpPr>
            <p:cNvPr id="232" name="AutoShape 5"/>
            <p:cNvSpPr/>
            <p:nvPr/>
          </p:nvSpPr>
          <p:spPr>
            <a:xfrm>
              <a:off x="5003640" y="2354760"/>
              <a:ext cx="3745080" cy="3764520"/>
            </a:xfrm>
            <a:custGeom>
              <a:avLst/>
              <a:gdLst>
                <a:gd name="textAreaLeft" fmla="*/ 548640 w 3745080"/>
                <a:gd name="textAreaRight" fmla="*/ 3196440 w 3745080"/>
                <a:gd name="textAreaTop" fmla="*/ 551160 h 3764520"/>
                <a:gd name="textAreaBottom" fmla="*/ 3213360 h 376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0" y="10800"/>
                  </a:moveTo>
                  <a:cubicBezTo>
                    <a:pt x="320" y="16588"/>
                    <a:pt x="5012" y="21280"/>
                    <a:pt x="10800" y="21280"/>
                  </a:cubicBezTo>
                  <a:cubicBezTo>
                    <a:pt x="16588" y="21280"/>
                    <a:pt x="21280" y="16588"/>
                    <a:pt x="21280" y="10800"/>
                  </a:cubicBezTo>
                  <a:cubicBezTo>
                    <a:pt x="21280" y="5012"/>
                    <a:pt x="16588" y="320"/>
                    <a:pt x="10800" y="320"/>
                  </a:cubicBezTo>
                  <a:cubicBezTo>
                    <a:pt x="5012" y="320"/>
                    <a:pt x="320" y="5012"/>
                    <a:pt x="320" y="1080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>
              <a:off x="5563080" y="5423400"/>
              <a:ext cx="447120" cy="34200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4" name="Freeform 7"/>
            <p:cNvSpPr/>
            <p:nvPr/>
          </p:nvSpPr>
          <p:spPr>
            <a:xfrm>
              <a:off x="6202080" y="3521520"/>
              <a:ext cx="577800" cy="26438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643840"/>
                <a:gd name="textAreaBottom" fmla="*/ 2644200 h 2643840"/>
              </a:gdLst>
              <a:ahLst/>
              <a:rect l="textAreaLeft" t="textAreaTop" r="textAreaRight" b="textAreaBottom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5" name="Freeform 8"/>
            <p:cNvSpPr/>
            <p:nvPr/>
          </p:nvSpPr>
          <p:spPr>
            <a:xfrm>
              <a:off x="6701040" y="3476880"/>
              <a:ext cx="590040" cy="257472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2574720"/>
                <a:gd name="textAreaBottom" fmla="*/ 2575080 h 2574720"/>
              </a:gdLst>
              <a:ahLst/>
              <a:rect l="textAreaLeft" t="textAreaTop" r="textAreaRight" b="textAreaBottom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6" name="Freeform 9"/>
            <p:cNvSpPr/>
            <p:nvPr/>
          </p:nvSpPr>
          <p:spPr>
            <a:xfrm>
              <a:off x="7041240" y="3276000"/>
              <a:ext cx="825120" cy="2663640"/>
            </a:xfrm>
            <a:custGeom>
              <a:avLst/>
              <a:gdLst>
                <a:gd name="textAreaLeft" fmla="*/ 0 w 825120"/>
                <a:gd name="textAreaRight" fmla="*/ 825480 w 825120"/>
                <a:gd name="textAreaTop" fmla="*/ 0 h 2663640"/>
                <a:gd name="textAreaBottom" fmla="*/ 2664000 h 2663640"/>
              </a:gdLst>
              <a:ahLst/>
              <a:rect l="textAreaLeft" t="textAreaTop" r="textAreaRight" b="textAreaBottom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7" name="Freeform 10"/>
            <p:cNvSpPr/>
            <p:nvPr/>
          </p:nvSpPr>
          <p:spPr>
            <a:xfrm>
              <a:off x="7910640" y="3559320"/>
              <a:ext cx="465120" cy="209520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095200"/>
                <a:gd name="textAreaBottom" fmla="*/ 2095560 h 2095200"/>
              </a:gdLst>
              <a:ahLst/>
              <a:rect l="textAreaLeft" t="textAreaTop" r="textAreaRight" b="textAreaBottom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8" name="Freeform 11"/>
            <p:cNvSpPr/>
            <p:nvPr/>
          </p:nvSpPr>
          <p:spPr>
            <a:xfrm>
              <a:off x="5553720" y="4203000"/>
              <a:ext cx="788040" cy="1809360"/>
            </a:xfrm>
            <a:custGeom>
              <a:avLst/>
              <a:gdLst>
                <a:gd name="textAreaLeft" fmla="*/ 0 w 788040"/>
                <a:gd name="textAreaRight" fmla="*/ 788400 w 788040"/>
                <a:gd name="textAreaTop" fmla="*/ 0 h 1809360"/>
                <a:gd name="textAreaBottom" fmla="*/ 1809720 h 1809360"/>
              </a:gdLst>
              <a:ahLst/>
              <a:rect l="textAreaLeft" t="textAreaTop" r="textAreaRight" b="textAreaBottom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9" name="Freeform 12"/>
            <p:cNvSpPr/>
            <p:nvPr/>
          </p:nvSpPr>
          <p:spPr>
            <a:xfrm>
              <a:off x="6903720" y="2514600"/>
              <a:ext cx="901080" cy="269280"/>
            </a:xfrm>
            <a:custGeom>
              <a:avLst/>
              <a:gdLst>
                <a:gd name="textAreaLeft" fmla="*/ 0 w 901080"/>
                <a:gd name="textAreaRight" fmla="*/ 901440 w 90108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0" name="Freeform 13"/>
            <p:cNvSpPr/>
            <p:nvPr/>
          </p:nvSpPr>
          <p:spPr>
            <a:xfrm>
              <a:off x="7112520" y="2890440"/>
              <a:ext cx="693000" cy="11448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1" name="Freeform 14"/>
            <p:cNvSpPr/>
            <p:nvPr/>
          </p:nvSpPr>
          <p:spPr>
            <a:xfrm>
              <a:off x="6728760" y="2349360"/>
              <a:ext cx="280440" cy="34632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2" name="Freeform 15"/>
            <p:cNvSpPr/>
            <p:nvPr/>
          </p:nvSpPr>
          <p:spPr>
            <a:xfrm>
              <a:off x="6468840" y="2384280"/>
              <a:ext cx="92160" cy="40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>
              <a:off x="5732640" y="3535560"/>
              <a:ext cx="2320920" cy="851400"/>
            </a:xfrm>
            <a:custGeom>
              <a:avLst/>
              <a:gdLst>
                <a:gd name="textAreaLeft" fmla="*/ 0 w 2320920"/>
                <a:gd name="textAreaRight" fmla="*/ 2321280 w 2320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>
              <a:off x="5153400" y="3729240"/>
              <a:ext cx="3544200" cy="1541160"/>
            </a:xfrm>
            <a:custGeom>
              <a:avLst/>
              <a:gdLst>
                <a:gd name="textAreaLeft" fmla="*/ 0 w 3544200"/>
                <a:gd name="textAreaRight" fmla="*/ 3544560 w 354420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>
              <a:off x="5944680" y="4891680"/>
              <a:ext cx="2697840" cy="990360"/>
            </a:xfrm>
            <a:custGeom>
              <a:avLst/>
              <a:gdLst>
                <a:gd name="textAreaLeft" fmla="*/ 0 w 2697840"/>
                <a:gd name="textAreaRight" fmla="*/ 2698200 w 26978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6" name="Freeform 19"/>
            <p:cNvSpPr/>
            <p:nvPr/>
          </p:nvSpPr>
          <p:spPr>
            <a:xfrm>
              <a:off x="6941880" y="2628000"/>
              <a:ext cx="1751400" cy="1426320"/>
            </a:xfrm>
            <a:custGeom>
              <a:avLst/>
              <a:gdLst>
                <a:gd name="textAreaLeft" fmla="*/ 0 w 1751400"/>
                <a:gd name="textAreaRight" fmla="*/ 1751760 w 1751400"/>
                <a:gd name="textAreaTop" fmla="*/ 0 h 1426320"/>
                <a:gd name="textAreaBottom" fmla="*/ 1426680 h 1426320"/>
              </a:gdLst>
              <a:ahLst/>
              <a:rect l="textAreaLeft" t="textAreaTop" r="textAreaRight" b="textAreaBottom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7" name="Freeform 20"/>
            <p:cNvSpPr/>
            <p:nvPr/>
          </p:nvSpPr>
          <p:spPr>
            <a:xfrm>
              <a:off x="7230960" y="2639160"/>
              <a:ext cx="287640" cy="2635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8" name="Freeform 21"/>
            <p:cNvSpPr/>
            <p:nvPr/>
          </p:nvSpPr>
          <p:spPr>
            <a:xfrm>
              <a:off x="6728760" y="2566440"/>
              <a:ext cx="620280" cy="48816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49" name="Freeform 22"/>
            <p:cNvSpPr/>
            <p:nvPr/>
          </p:nvSpPr>
          <p:spPr>
            <a:xfrm>
              <a:off x="6831720" y="2447280"/>
              <a:ext cx="239400" cy="218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0" name="Freeform 23"/>
            <p:cNvSpPr/>
            <p:nvPr/>
          </p:nvSpPr>
          <p:spPr>
            <a:xfrm>
              <a:off x="5003640" y="2457000"/>
              <a:ext cx="2008440" cy="2510640"/>
            </a:xfrm>
            <a:custGeom>
              <a:avLst/>
              <a:gdLst>
                <a:gd name="textAreaLeft" fmla="*/ 0 w 2008440"/>
                <a:gd name="textAreaRight" fmla="*/ 2008800 w 2008440"/>
                <a:gd name="textAreaTop" fmla="*/ 0 h 2510640"/>
                <a:gd name="textAreaBottom" fmla="*/ 2511000 h 2510640"/>
              </a:gdLst>
              <a:ahLst/>
              <a:rect l="textAreaLeft" t="textAreaTop" r="textAreaRight" b="textAreaBottom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1" name="Freeform 24"/>
            <p:cNvSpPr/>
            <p:nvPr/>
          </p:nvSpPr>
          <p:spPr>
            <a:xfrm>
              <a:off x="6321240" y="5680080"/>
              <a:ext cx="550080" cy="41364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2" name="Freeform 25"/>
            <p:cNvSpPr/>
            <p:nvPr/>
          </p:nvSpPr>
          <p:spPr>
            <a:xfrm>
              <a:off x="6192360" y="5563800"/>
              <a:ext cx="543240" cy="18324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3" name="Freeform 26"/>
            <p:cNvSpPr/>
            <p:nvPr/>
          </p:nvSpPr>
          <p:spPr>
            <a:xfrm>
              <a:off x="5216400" y="4997160"/>
              <a:ext cx="184320" cy="2494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4" name="Freeform 27"/>
            <p:cNvSpPr/>
            <p:nvPr/>
          </p:nvSpPr>
          <p:spPr>
            <a:xfrm>
              <a:off x="5395320" y="4883400"/>
              <a:ext cx="109800" cy="3686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5" name="Freeform 28"/>
            <p:cNvSpPr/>
            <p:nvPr/>
          </p:nvSpPr>
          <p:spPr>
            <a:xfrm>
              <a:off x="5560560" y="4593240"/>
              <a:ext cx="354600" cy="31392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6" name="AutoShape 29"/>
            <p:cNvSpPr/>
            <p:nvPr/>
          </p:nvSpPr>
          <p:spPr>
            <a:xfrm rot="10800000">
              <a:off x="6065280" y="2685600"/>
              <a:ext cx="1117080" cy="855360"/>
            </a:xfrm>
            <a:custGeom>
              <a:avLst/>
              <a:gdLst>
                <a:gd name="textAreaLeft" fmla="*/ 163440 w 1117080"/>
                <a:gd name="textAreaRight" fmla="*/ 953640 w 1117080"/>
                <a:gd name="textAreaTop" fmla="*/ 124560 h 855360"/>
                <a:gd name="textAreaBottom" fmla="*/ 730800 h 85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257" name="Rectangle 30"/>
          <p:cNvSpPr/>
          <p:nvPr/>
        </p:nvSpPr>
        <p:spPr>
          <a:xfrm>
            <a:off x="1332000" y="2852640"/>
            <a:ext cx="684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1d528d"/>
                </a:solidFill>
                <a:uFillTx/>
                <a:latin typeface="Verdana"/>
                <a:ea typeface="굴림"/>
              </a:rPr>
              <a:t>Thank </a:t>
            </a:r>
            <a:r>
              <a:rPr b="1" lang="en-US" sz="6000" spc="-1" strike="noStrike" u="sng">
                <a:solidFill>
                  <a:srgbClr val="2ca3c8"/>
                </a:solidFill>
                <a:uFillTx/>
                <a:latin typeface="Verdana"/>
                <a:ea typeface="굴림"/>
              </a:rPr>
              <a:t>You !</a:t>
            </a:r>
            <a:endParaRPr b="0" lang="en-US" sz="60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.1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态性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多态性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个事物具有多种形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向不同的对象发送同一个消息，不同的对象在接收时会产生不同的行为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即方法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一种语句只支持类而不支持多态，是不能称为面向对象语言的，只能说是基于对象的，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a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静态多态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函数重载、运算符重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程序编译时系统就能决定调用的是哪个函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态多态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虚函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程序运行过程中才动态地确定操作所针对的对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.2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个典型的例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.1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先建立一个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int(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类，包含数据成员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x,y(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坐标点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以它为基类，派生出一个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ircle(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圆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类，增加数据成员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r(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再以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ircle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类为直接基类，派生出一个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ylinder(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圆柱体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类，再增加数据成员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h(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高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要求编写程序，重载运算符“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&lt;&lt;”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“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&gt;&gt;”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使之能用于输出以上类对象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6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Poin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oint(float x=0,float y=0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etPoint(float,float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getX( ) const {return x;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getY( ) const {return y;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riend ostream &amp; operator&lt;&lt;(ostream &amp;,const Point &amp;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otected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x,y; 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oint::Point(float a,float b)  {x=a;y=b;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Point::setPoint(float a,float b)  {x=a;y=b;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ostream &amp; operator&lt;&lt;(ostream &amp;output,const Point &amp;p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output&lt;&lt;″[″&lt;&lt;p.x&lt;&lt;″,″&lt;&lt;p.y&lt;&lt;″]″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output;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6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Circle:public Poin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rcle(float x=0,float y=0,float r=0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etRadius(float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getRadius( ) const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area ( ) cons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riend ostream &amp;operator&lt;&lt;(ostream &amp;,const Circle &amp;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radius;  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rcle::Circle(float a,float b,float r):Point(a,b),radius(r){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Circle::setRadius(float r)  {radius=r;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Circle::getRadius( ) const  {return radius;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Circle::area( ) const {return 3.14159*radius*radius;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ostream &amp;operator&lt;&lt;(ostream &amp;output,const Circle &amp;c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output&lt;&lt;″Center=[″&lt;&lt;c.x&lt;&lt;″,″&lt;&lt;c.y&lt;&lt;″],r=″&lt;&lt;c.radius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″,area=″&lt;&lt;c.area( )&lt;&lt;endl;     return output;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6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137160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Cylinder:public Circle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ylinder (float x=0,float y=0,float r=0,float h=0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etHeight(float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getHeight( ) cons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area( ) cons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volume( ) cons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riend ostream&amp; operator&lt;&lt;(ostream&amp;,const Cylinder&amp;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otected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height;   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ylinder::Cylinder(float a,float b,float r,float h) :Circle(a,b,r),height(h){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Cylinder::setHeight(float h)  {  height=h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Cylinder::getHeight( ) const  {  return height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Cylinder::area( ) cons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return 2*Circle::area( )+2*3.14159*radius*height;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6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Cylinder::volume() const {return Circle::area()*height;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ostream &amp;operator&lt;&lt;(ostream &amp;output,const Cylinder&amp; cy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output&lt;&lt;″Center=[″&lt;&lt;cy.x&lt;&lt;″,″&lt;&lt;cy.y&lt;&lt;″],r=″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cy.radius&lt;&lt;″,h=″&lt;&lt;cy.height &lt;&lt;″\\narea=″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cy.area( )&lt;&lt;″, volume=″&lt;&lt;cy.volume( )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output;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ylinder cy1(3.5,6.4,5.2,10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\\noriginal cylinder:\\nx=″&lt;&lt;cy1.getX( )&lt;&lt;″, y=″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cy1.getY( )&lt;&lt;″, r=″&lt;&lt;cy1.getRadius( )&lt;&lt;″, h=″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cy1.getHeight( )&lt;&lt;″\\narea=″&lt;&lt;cy1.area(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″,volume=″&lt;&lt;cy1.volume()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y1.setHeight(15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y1.setRadius(7.5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y1.setPoint(5,5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7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\\nnew cylinder:\\n″&lt;&lt;cy1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oint &amp;pRef=cy1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\\npRef as a Point:″&lt;&lt;pRef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rcle &amp;cRef=cy1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\\ncRef as a Circle:″&lt;&lt;cRef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7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6:44:19Z</dcterms:created>
  <dc:creator>Guorui Li</dc:creator>
  <dc:description/>
  <dc:language>en-US</dc:language>
  <cp:lastModifiedBy>GuoruiLi</cp:lastModifiedBy>
  <dcterms:modified xsi:type="dcterms:W3CDTF">2022-12-07T08:04:15Z</dcterms:modified>
  <cp:revision>1122</cp:revision>
  <dc:subject/>
  <dc:title>PowerPoint Template</dc:title>
</cp:coreProperties>
</file>