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8CA-9F76-46FD-BDD2-C5521A68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FDE-228A-4F17-8743-98D6154E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CE8-936A-448E-B891-71CCA2B1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068-903E-4A86-B49F-A846241D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32D-F8F7-49C1-A050-38B4C258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6F87-FD0A-4647-84E7-6C52FD3A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9305-51E7-4F3D-883D-D59E832A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3D5B-47EA-4FBE-9C9D-ED0F8238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427-9F62-4263-A499-24EB4530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FDDF-D647-4D3D-9B5A-30FD9C3B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CA6-1EB1-42A3-8BE6-6E85D6E8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5E2B-8A89-4CFC-B610-1A310CB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73A-9073-439A-B7BD-3E61FF5B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585E-F807-4034-8957-2120060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B091-5D16-40D2-BED0-BF3FA4E0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E915-16DB-4BC7-A401-4179BF2A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9A12-A111-4B50-BF78-5952651B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E5A-24FB-4C02-880E-88845FEE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6F7-8152-4D1D-85D0-BB350F3F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037-E934-44FE-BE29-A8CAE437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928-557F-4113-99A3-DFC2DBF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585-378A-4717-877F-74552554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AAF-E3A3-461A-8685-6D512DD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03B-C71E-4513-9E12-0775676A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4D3E-0E85-476E-BCE8-ABA0288EECAE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1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Rectangle 33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8" name="Rectangle 34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9" name="Rectangle 35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0" name="Group 36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Freeform 37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2" name="Freeform 38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3" name="Group 39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40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Freeform 41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Freeform 42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Freeform 43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Freeform 44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429120" y="2602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NEUQ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2788-6914-4DED-ACF7-FFB749EC2633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8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楷体"/>
              </a:rPr>
              <a:t>李国瑞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lgr@mail.neuq.edu.c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作为函数参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一个变量的地址传送给被调用函数的形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.3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题目同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.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void swap(int *p1,int *p2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*pointer_1,*pointer_2,a,b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er_1=&amp;a;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er_2=&amp;b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a&lt;b) swap(pointer_1,pointer_2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max=″&lt;&lt;a&lt;&lt;″ min=″&lt;&lt;b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wap(int *p1,int *p2)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将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与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交换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{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temp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=*p1;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1=*p2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2=temp;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81" name="Picture 3" descr="F:\计算机事业部电子教案\C++程序设计\tu\tu\图6.9.tif"/>
          <p:cNvPicPr/>
          <p:nvPr/>
        </p:nvPicPr>
        <p:blipFill>
          <a:blip r:embed="rId1"/>
          <a:stretch/>
        </p:blipFill>
        <p:spPr>
          <a:xfrm>
            <a:off x="1219320" y="2819520"/>
            <a:ext cx="6858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wap(int *p1,int *p2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int *tem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tem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；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此语句有问题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=*p2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2=*tem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wap(int *p1,int *p2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*temp=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=p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=p2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2=temp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4298040" y="1701720"/>
            <a:ext cx="31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未对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temp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赋值，因此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temp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并无确定的值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3714840" y="4214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调用函数时不会改变实参指针变量的值，但可以改变实参指针变量所指向变量的值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4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输入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,b,c 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整数，按由大到小的顺序输出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void exchange(int *,int *,int *);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,b,c,*p1,*p2,*p3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&gt;&gt;c;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=&amp;a;p2=&amp;b;p3=&amp;c;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exchange(p1,p2,p3);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&lt;&lt;″ ″&lt;&lt;b&lt;&lt;″ ″&lt;&lt;c&lt;&lt;endl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exchange(int *q1,int *q2,int *q3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void swap(int *,int *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*q1&lt;*q2) swap(q1,q2)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*q1&lt;*q3) swap(q1,q3);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*q2&lt;*q3) swap(q2,q3);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wap(int *pt1,int *pt2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{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temp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=*pt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t1=*pt2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t2=temp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的调用可以（而且只可以）得到一个返回值，而使用指针变量作函数参数，就可以通过指针变量改变主调函数中变量的值，相当于通过函数调用从被调用的函数中得到多个值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3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数组与指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数组元素的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所谓数组元素的指针就是数组元素的地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a[10];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*p;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=&amp;a[0]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数组名代表数组中第一个元素的地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=&amp;a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=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=1;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当前所指向的数组元素赋予数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果指针变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已指向数组中的一个元素，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+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指向同一数组中的下一个元素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7120" y="1371600"/>
            <a:ext cx="65008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初值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amp;a[0]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+i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+i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就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[i]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地址，或者说它们指向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数组的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元素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*(p+i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a+i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+i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+i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所指向的数组元素，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[i]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]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实际上是变址运算符。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[i]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求解过程是先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+i×d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计算数组元素的地址，然后找出此地址所指向的单元中的值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指向数组元素的指针变量也可以带下标，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[i]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p+i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等价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引用一个数组元素的方法： 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标法，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[i]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指针法，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a+i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p+i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99" name="Picture 3" descr="F:\C++程序设计\tu\tu\图6.12.tif"/>
          <p:cNvPicPr/>
          <p:nvPr/>
        </p:nvPicPr>
        <p:blipFill>
          <a:blip r:embed="rId1"/>
          <a:stretch/>
        </p:blipFill>
        <p:spPr>
          <a:xfrm>
            <a:off x="6858000" y="1500120"/>
            <a:ext cx="1954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5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输出数组中的全部元素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 下标法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a[10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10;i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[i];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引用数组元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10;i++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[i]&lt;&lt;″ ″;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引用数组元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指针法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a[10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10;i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*(a+i);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10;i++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(a+i)&lt;&lt;″ ″;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用指针变量指向数组元素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a[10]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,*p=a;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10;i++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*(p+i);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p=a;p&lt;(a+10);p++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p&lt;&lt;″ ″;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929040" y="2000160"/>
            <a:ext cx="46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注意： 指针变量可以指向有效的数组元素，也可以指向数组以后的内存单元。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a[10],*p=a; 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(p+10)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755640" y="227664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第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  <a:ea typeface="宋体"/>
              </a:rPr>
              <a:t>6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章  善于使用指针与引用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用指针变量作函数参数接收数组地址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指针变量作函数形参，可以接收从实参传递来的数组首元素的地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6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整数按由小到大的顺序排列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select_sort(int *p,int n);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函数声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[10],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enter the originl array:″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10;i++)          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个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[i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elect_sort(a,10);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e sorted array:″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10;i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[i]&lt;&lt;″  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elect_sort(int *p,int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i,j,k,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n-1;i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k=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j=i+1;j&lt;n;j++)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*(p+j)&lt;*(p+k)) k=j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=*(p+k);*(p+k)=*(p+i);*(p+i)=t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16" name="Picture 3" descr="F:\C++程序设计\tu\tu\图6.13.tif"/>
          <p:cNvPicPr/>
          <p:nvPr/>
        </p:nvPicPr>
        <p:blipFill>
          <a:blip r:embed="rId1"/>
          <a:stretch/>
        </p:blipFill>
        <p:spPr>
          <a:xfrm>
            <a:off x="6000840" y="1500120"/>
            <a:ext cx="2415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参数组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代表一个固定的地址，或者说是指针型常量，因此不能改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法错误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常量，不能改变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参数组名是指针变量，并不是一个固定的地址值。它的值是可以改变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(array[],int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rray=array+3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array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4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字符串与指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++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中提供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种方法访问字符串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字符数组存放一个字符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7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定义一个字符数组并初始化，然后输出其中的字符串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har str[]=″I love CHINA!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r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字符串变量存放字符串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8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定义一个字符串变量并初始化，然后输出其中的字符串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ring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string str=″I love CHINA!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r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字符指针指向一个字符串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9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定义一个字符指针变量并初始化，然后输出它指向的字符串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char *str=″I love CHINA!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tr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838760" y="2928960"/>
            <a:ext cx="28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对字符指针变量初始化，实际上是把字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符串中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字符的地址赋给指针变量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0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字符串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r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复制为字符串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r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har str1[]=″I love CHINA!″,str2[20],*p1,*p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=str1;p2=str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;*p1!=′\0′;p1++,p2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2=*p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2=′\0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=str1;p2=str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str1 is: ″&lt;&lt;p1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str2 is: ″&lt;&lt;p2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33" name="Picture 3" descr="F:\C++程序设计\tu\tu\图6.19.tif"/>
          <p:cNvPicPr/>
          <p:nvPr/>
        </p:nvPicPr>
        <p:blipFill>
          <a:blip r:embed="rId1"/>
          <a:stretch/>
        </p:blipFill>
        <p:spPr>
          <a:xfrm>
            <a:off x="5402160" y="3429000"/>
            <a:ext cx="3384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5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函数与指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用函数指针调用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函数在编译时被分配给一个入口地址。这个函数入口地址就称为函数的指针。可以用一个指针变量指向函数，然后通过该指针变量调用此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函数类型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*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变量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(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函数形参表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(*p) (int,in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所指向的函数的形参类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指向函数的指针变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指针变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指向的函数的类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2724120" y="3929040"/>
            <a:ext cx="0" cy="2286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724120" y="4157640"/>
            <a:ext cx="38088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1962000" y="4005360"/>
            <a:ext cx="0" cy="4572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1962000" y="4462560"/>
            <a:ext cx="45720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28840" y="3929040"/>
            <a:ext cx="0" cy="838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28840" y="4767120"/>
            <a:ext cx="304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07136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求ａ和ｂ中的大者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max(int x,int y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(*p)(int,int);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,b,m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=max;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m=p(a,b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max=″&lt;&lt;m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x(int x,int y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z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x&gt;y)   z=x;   else z=y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(z)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46" name="Picture 3" descr="F:\C++程序设计\tu\tu\图6.20.tif"/>
          <p:cNvPicPr/>
          <p:nvPr/>
        </p:nvPicPr>
        <p:blipFill>
          <a:blip r:embed="rId1"/>
          <a:stretch/>
        </p:blipFill>
        <p:spPr>
          <a:xfrm>
            <a:off x="7143840" y="3286080"/>
            <a:ext cx="1571400" cy="3071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3470400" y="28576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(*p)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两侧的括号不可省略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854520" y="35719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将函数的入口地址赋值给指针变量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6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返回指针值的函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返回指针值的函数简称为指针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名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函数名（参数表列）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*a(int x,int 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什么是指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4200" y="1268280"/>
            <a:ext cx="65008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数据在内存中的存取方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在程序中定义了一个变量，在编译时就给这个变量分配内存单元。系统根据程序中定义的变量类型，分配一定长度的空间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存区的每一个字节有一个编号，也就是“地址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内存单元的地址与内存单元的内容的区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程序中一般是通过变量名来对内存单元进行存取操作的。其实程序经过编译以后已经将变量名转换为变量的地址，对变量值的存取都是通过地址进行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51" name="Picture 3" descr="F:\计算机事业部电子教案\C++程序设计\tu\tu\图6.1.tif"/>
          <p:cNvPicPr/>
          <p:nvPr/>
        </p:nvPicPr>
        <p:blipFill>
          <a:blip r:embed="rId1"/>
          <a:stretch/>
        </p:blipFill>
        <p:spPr>
          <a:xfrm>
            <a:off x="6688080" y="2286000"/>
            <a:ext cx="24559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7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指针数组和指向指针的指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数组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一个数组，其元素均为指针类型数据，该数组称为指针数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针数组中的每一个元素相当于一个指针变量，它的值都是地址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名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数组名［数组长度］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*p[4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能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面加括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2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干字符串按字母顺序（由小到大）输出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sort(char *name[],int n)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print(char *name[],int n);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*name[]={″BASIC″,″FORTRAN″,″C++″,″Pascal″,″COBOL″}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n=5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ort(name,n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nt(name,n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ort(char *name[],int n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har *temp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,j,k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58" name="Picture 3" descr="F:\C++程序设计\tu\tu\图6.21.tif"/>
          <p:cNvPicPr/>
          <p:nvPr/>
        </p:nvPicPr>
        <p:blipFill>
          <a:blip r:embed="rId1"/>
          <a:stretch/>
        </p:blipFill>
        <p:spPr>
          <a:xfrm>
            <a:off x="5214960" y="4071960"/>
            <a:ext cx="3286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n-1;i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k=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j=i+1;j&lt;n;j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strcmp(name[k],name[j])&gt;0) k=j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k!=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temp=name[i];name[i]=name[k];name[k]=temp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print(char *name[],int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0;i&lt;n;i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name[i]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62" name="Picture 4" descr="F:\C++程序设计\tu\tu\图6.22.tif"/>
          <p:cNvPicPr/>
          <p:nvPr/>
        </p:nvPicPr>
        <p:blipFill>
          <a:blip r:embed="rId1"/>
          <a:stretch/>
        </p:blipFill>
        <p:spPr>
          <a:xfrm>
            <a:off x="5214960" y="4214880"/>
            <a:ext cx="32860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print(char *name[],int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i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*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=name[0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hile(i&lt;n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=*(name+i++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p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920" y="1371600"/>
            <a:ext cx="885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指针的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向指针数据的指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ar *(*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ar **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6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向字符型数据的指针变量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har **p;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*name[]={″BASIC″,″FORTRAN″,″C++″,″Pascal″,″COBOL″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=name+2;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p&lt;&lt;endl;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[2]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指向的字符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*p&lt;&lt;endl;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[2]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指向的字符串中的第一个字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69" name="Picture 3" descr="F:\C++程序设计\tu\tu\图6.23.tif"/>
          <p:cNvPicPr/>
          <p:nvPr/>
        </p:nvPicPr>
        <p:blipFill>
          <a:blip r:embed="rId1"/>
          <a:stretch/>
        </p:blipFill>
        <p:spPr>
          <a:xfrm>
            <a:off x="4143240" y="1071720"/>
            <a:ext cx="37864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间接访问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级间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二级间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73" name="Picture 3" descr="F:\C++程序设计\tu\tu\图6.24.tif"/>
          <p:cNvPicPr/>
          <p:nvPr/>
        </p:nvPicPr>
        <p:blipFill>
          <a:blip r:embed="rId1"/>
          <a:stretch/>
        </p:blipFill>
        <p:spPr>
          <a:xfrm>
            <a:off x="2571840" y="2952720"/>
            <a:ext cx="4724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8 con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指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常量的指针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onst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名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名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允许通过指针变量改变它指向的对象的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a=12,b=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nst int *p=&amp;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*p=15;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针变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指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改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=&amp;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所指对象的值可以改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1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用作函数形参，以防止在被调函数中修改实参的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被调函数中改变指针形参所指对象的值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fun(const int *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=5*(*p);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错误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不能改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=1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un(&amp;a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&lt;&lt;" "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57120" y="1371600"/>
            <a:ext cx="83296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常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定指针变量的值是常量，即指针变量的指向不能改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*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onst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ar * const p1=“China”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1=“Canada”;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a=4,b=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*const p2=&amp;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2=&amp;b;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必须在定义时初始化，指定其指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指针变量指向的变量的值可以改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*p2=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向常量的常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针变量指向一个固定的对象，并且该对象的值不能改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onst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基本类型名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* const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a=10,b=2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st int * const pt=&amp;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t=&amp;b;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*pt=30;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=3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280" y="121428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接存取方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变量地址存取变量值的方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间接存取方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变量的地址存放在另一个专门用来存放地址的变量中，利用该存放地址的变量进行存取的方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_pointer=&amp;i;      //&amp;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取地址运算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i_pointer=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*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针运算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变量的地址称为该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变量的指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有一个变量是专门用来存放另一变量地址的，则它称为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指针变量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针变量的值是地址（指针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55" name="Picture 3" descr="F:\计算机事业部电子教案\C++程序设计\tu\tu\图6.2.tif"/>
          <p:cNvPicPr/>
          <p:nvPr/>
        </p:nvPicPr>
        <p:blipFill>
          <a:blip r:embed="rId1"/>
          <a:stretch/>
        </p:blipFill>
        <p:spPr>
          <a:xfrm>
            <a:off x="5357880" y="1357200"/>
            <a:ext cx="35002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9 void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指针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void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类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基类型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oi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指针变量，它不指向任何类型的数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向空类型或不指向确定的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=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*p1=&amp;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ar *p2="new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*p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3=(void *)p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p3&lt;&lt;endl;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(int *)p3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allo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辟动态存储空间时，函数的返回值为该空间的起始地址，因为没有使用，故返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oi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指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必须转换为指定一个确定的数据类型的指针，才能访问实际存在的数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10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关指针和指针运算的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14200" y="1357200"/>
          <a:ext cx="8572680" cy="5097600"/>
        </p:xfrm>
        <a:graphic>
          <a:graphicData uri="http://schemas.openxmlformats.org/drawingml/2006/table">
            <a:tbl>
              <a:tblPr/>
              <a:tblGrid>
                <a:gridCol w="2357640"/>
                <a:gridCol w="62150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i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ca3c8"/>
                      </a:solidFill>
                    </a:lnT>
                    <a:lnB w="5760">
                      <a:solidFill>
                        <a:srgbClr val="2ca3c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定义整型变量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ca3c8"/>
                      </a:solidFill>
                    </a:lnT>
                    <a:lnB w="5760">
                      <a:solidFill>
                        <a:srgbClr val="2ca3c8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*p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ca3c8"/>
                      </a:solidFill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指向整型数据的指针变量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ca3c8"/>
                      </a:solidFill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a[n]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定义整型数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，它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元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*p[n]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定义指针数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，它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指向整型数据的指针元素组成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(*p)[n]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指向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元素的一维数组的指针变量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f( )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带回整型函数值的函数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*p( )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带回一个指针的函数，该指针指向整型数据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(*p)( )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指向函数的指针，该函数返回一个整型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**p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是一个指向指针的指针变量，它指向一个指向整型数据的指针变量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 * const p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是常指针，其值是固定值，即其指向不能变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onst int *p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是指向常量的指针变量，不能通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变其指向的对象的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onst int * const p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是指向常量的常指针，其值不能改变，且不能改变其指向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ca3c8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void *p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ca3c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基类型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voi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指针变量，不指向具体的对象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ca3c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运算小结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加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减一个整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指针变量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一个整数是将该指针变量的原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一个地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它指向的变量所占用的内存单元字节数相加或相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+i     -&gt;     p+i*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赋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一个变量地址赋给一个指针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=&amp;a;   p=array;  p=&amp;array[i]; p=max; p1=p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指针变量可以有空值，即该指针变量不指向任何变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=NULL;         // #define NULL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p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的值等于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NULL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和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p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未被赋值是两个不同的概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运算小结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两个指针变量可以相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两个指针变量指向同一个数组的元素，则两个指针变量值之差是两个指针之间的元素个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个指针变量相加无意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两个指针变量比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两个指针指向同一个数组的元素，则可以进行比较。指向前面的元素的指针变量小于指向后面元素的指针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两个指针不指向同一数组则比较无意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对指针变量的赋值应注意类型问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类型的指针变量赋值，需用强制类型转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指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优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提高程序效率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调用函数时，如果改变被调用函数中某些变量的值，这些值能为主调函数使用，即可以通过函数的调用，得到多个可改变的值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实现动态存储分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十分容易出错，而且这种错误往往难以发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F:\C++程序设计\tu\tu\图6.26.tif"/>
          <p:cNvPicPr/>
          <p:nvPr/>
        </p:nvPicPr>
        <p:blipFill>
          <a:blip r:embed="rId1"/>
          <a:stretch/>
        </p:blipFill>
        <p:spPr>
          <a:xfrm>
            <a:off x="6786720" y="2286000"/>
            <a:ext cx="1909440" cy="10573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1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引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引用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引用是一种新的变量类型，它的作用是为一个变量起一个别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a;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整型变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&amp;b=a;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声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引用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引用声明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占内存中同一个存储单元，具有同一地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数据类型名后面出现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amp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引用声明符，在其他场合出现的都是地址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ar &amp;d=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*p=&amp;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3572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关于引用的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引用不是一种独立的数据类型。对引用只有声明，没有定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一个引用时，必须同时使之初始化，即声明它代表哪一个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一个引用后，不能再使之作为另一个变量的引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a1,a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&amp;b=a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&amp;b=a2;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错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能建立引用数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a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&amp;b[5]=a;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错误，不能建立引用数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关于引用的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能建立引用的引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a=3;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&amp;b=a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&amp;c=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能建立引用的指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*p=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取引用的地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*pt; pt=&amp;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区分引用说明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amp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地址运算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&amp;b=a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 &lt;&lt;&amp;b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5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引用和变量的关系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manip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a=1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&amp;b=a;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声明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引用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=a*a;                     //a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变化了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也应一起变化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&lt;&lt;setw(6)&lt;&lt;b&lt;&lt;endl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=b/5;                     //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变化了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值也应一起变化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b&lt;&lt;setw(6)&lt;&lt;a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1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3572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引用作为函数参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变量名作为实参和形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void swap(int,int);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=3,j=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wap(i,j);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i&lt;&lt;″ ″&lt;&lt;j&lt;&lt;endl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wap(int a,int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te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=a;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=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=temp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17" name="Picture 3" descr="F:\C++程序设计\tu\tu\图6.27.tif"/>
          <p:cNvPicPr/>
          <p:nvPr/>
        </p:nvPicPr>
        <p:blipFill>
          <a:blip r:embed="rId1"/>
          <a:stretch/>
        </p:blipFill>
        <p:spPr>
          <a:xfrm>
            <a:off x="5000760" y="300024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2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变量与指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定义指针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基类型   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*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针变量的基类型用来指定该指针变量可以指向的变量的类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编译系统为每一个指针变量分配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字节的存储单元，用来存放变量的地址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int i,j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int  *pointer_1, *pointer_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被指向的变量的地址赋给指针变量进行指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inter_1=&amp;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inter_2=&amp;j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59" name="Picture 3" descr="F:\计算机事业部电子教案\C++程序设计\tu\tu\图6.4.tif"/>
          <p:cNvPicPr/>
          <p:nvPr/>
        </p:nvPicPr>
        <p:blipFill>
          <a:blip r:embed="rId1"/>
          <a:stretch/>
        </p:blipFill>
        <p:spPr>
          <a:xfrm>
            <a:off x="5357880" y="5151600"/>
            <a:ext cx="142884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28556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引用作为函数参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传递变量的指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swap(int *,int *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=3,j=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wap(&amp;i,&amp;j);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i&lt;&lt;″ ″&lt;&lt;j&lt;&lt;endl;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wap(int *p1,int *p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te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=*p1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=*p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*p2=temp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21" name="Picture 3" descr="F:\C++程序设计\tu\tu\图6.28.tif"/>
          <p:cNvPicPr/>
          <p:nvPr/>
        </p:nvPicPr>
        <p:blipFill>
          <a:blip r:embed="rId1"/>
          <a:stretch/>
        </p:blipFill>
        <p:spPr>
          <a:xfrm>
            <a:off x="4857840" y="3643200"/>
            <a:ext cx="3786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引用作为函数参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传送变量的别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void swap(int &amp;,int &amp;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=3,j=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wap(i,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i=″&lt;&lt;i&lt;&lt;″  ″&lt;&lt;″j=″&lt;&lt;j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wap(int &amp;a,int &amp;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int te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=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=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=temp;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25" name="Picture 3" descr="F:\C++程序设计\tu\tu\图6.29.tif"/>
          <p:cNvPicPr/>
          <p:nvPr/>
        </p:nvPicPr>
        <p:blipFill>
          <a:blip r:embed="rId1"/>
          <a:stretch/>
        </p:blipFill>
        <p:spPr>
          <a:xfrm>
            <a:off x="4000680" y="2857680"/>
            <a:ext cx="4624200" cy="12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9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变量按由小到大的顺序排序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sort(int &amp;,int &amp;,int &amp;);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函数声明，形参是引用类型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,b,c;                              //a,b,c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需排序的变量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a1,b1,c1;                         //a1,b1,c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最终的值是已排好序的数列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Please enter 3 integers:″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&gt;&gt;c;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,b,c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1=a;b1=b;c1=c;  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ort(a1,b1,c1);     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调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or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函数，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1,b1,c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为实参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sorted order is ″&lt;&lt;a1&lt;&lt;″ ″&lt;&lt;b1&lt;&lt;″ ″&lt;&lt;c1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sort(int &amp;i,int &amp;j,int &amp;k)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,j,k 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个数排序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void change(int &amp;,int &amp;);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函数声明，形参是引用类型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 (i&gt;j) change (i,j);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&lt;=j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 (i&gt;k) change (i,k);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&lt;=k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 (j&gt;k) change (j,k);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j&lt;=k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oid change (int &amp;x,int &amp;y)         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互换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temp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mp=x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x=y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y=temp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3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3" name="文本框 6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语句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int 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*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; *p=50;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执行时，不会有任何错误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4" name="文本框 7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5" name="文本框 8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6" name="椭圆 11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7" name="椭圆 12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8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39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4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44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6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要通过函数调用来改变主调函数中某个变量的值，可以把指针作为函数的参数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7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8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9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50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51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52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53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4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5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6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57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59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数组的基地址是在内存中存储数组的起始位置，数组名本身就是一个地址即指针值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60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61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62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63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64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65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66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7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8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9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70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2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对于定义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int a[10],*p=a; 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语句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=a+1;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a=a+1;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都是合法的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4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5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6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7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78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79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8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8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8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83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5" name="文本框 6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 *p[5]; 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了一个指针数组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指向一个有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元素的数组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6" name="文本框 7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7" name="文本框 8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8" name="椭圆 11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9" name="椭圆 12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90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91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92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93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94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95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96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98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如果函数的返回类型是指针，则可以返回函数内部任意变量的地址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99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0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1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2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3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404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405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0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0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08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409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定义指针变量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定义指针变量时必须指定基类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同类型的数据在计算机中的存储方式和所占用字节数是不同的，如果想通过指针引用一个变量，必须知道地址和数据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能用一个整数给一个指针变量赋初值，只能将一个已定义的变量的地址作为指针变量的初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nt *pointer_1=2000;     //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错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nt *pointer_1=&amp;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指针变量只能指向同一个类型的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1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下面程序段的运行结果是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(  )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r str[]= "abc\0def\0ghi", *p=str;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intf("%s", p+5) ;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2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3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4" name="文本框 7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\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5" name="文本框 8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f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6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7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8" name="椭圆 11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9" name="椭圆 12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20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421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422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3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4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5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426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13"/>
          <p:cNvSpPr/>
          <p:nvPr/>
        </p:nvSpPr>
        <p:spPr>
          <a:xfrm>
            <a:off x="9524880" y="0"/>
            <a:ext cx="384012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b9b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28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29" name="文本框 4"/>
          <p:cNvSpPr/>
          <p:nvPr/>
        </p:nvSpPr>
        <p:spPr>
          <a:xfrm>
            <a:off x="914400" y="1484280"/>
            <a:ext cx="73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下面程序段的运行结果是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_____________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r a[]= "123456789", *p;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 i=0 ;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=a ;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hile(*p)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{   if(i%2 == 0)  *p='*' ;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++ ;  i++ ; 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}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uts(a) ;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30" name="矩形: 圆角 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答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31" name="矩形 11"/>
          <p:cNvSpPr/>
          <p:nvPr/>
        </p:nvSpPr>
        <p:spPr>
          <a:xfrm>
            <a:off x="0" y="5850000"/>
            <a:ext cx="9144000" cy="36504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正常使用主观题需</a:t>
            </a:r>
            <a:r>
              <a:rPr b="0" lang="en-US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2.0</a:t>
            </a:r>
            <a:r>
              <a:rPr b="0" lang="zh-CN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以上版本雨课堂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32" name="文本框 18"/>
          <p:cNvSpPr/>
          <p:nvPr/>
        </p:nvSpPr>
        <p:spPr>
          <a:xfrm>
            <a:off x="9613800" y="6418800"/>
            <a:ext cx="3662640" cy="27648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可为此题添加文本、图片、公式等解析，且需将内容全部放在本区域内。正常使用需</a:t>
            </a:r>
            <a:r>
              <a:rPr b="0" lang="en-US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3.0</a:t>
            </a:r>
            <a:r>
              <a:rPr b="0" lang="zh-CN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以上版本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33" name="文本框 19"/>
          <p:cNvSpPr/>
          <p:nvPr/>
        </p:nvSpPr>
        <p:spPr>
          <a:xfrm>
            <a:off x="9779040" y="127008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*4*6*8*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434" name="组合 1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435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观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8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439" name="组合 17"/>
          <p:cNvGrpSpPr/>
          <p:nvPr/>
        </p:nvGrpSpPr>
        <p:grpSpPr>
          <a:xfrm>
            <a:off x="9537840" y="0"/>
            <a:ext cx="3814560" cy="647640"/>
            <a:chOff x="9537840" y="0"/>
            <a:chExt cx="3814560" cy="647640"/>
          </a:xfrm>
        </p:grpSpPr>
        <p:sp>
          <p:nvSpPr>
            <p:cNvPr id="440" name="RemarkBack"/>
            <p:cNvSpPr/>
            <p:nvPr/>
          </p:nvSpPr>
          <p:spPr>
            <a:xfrm>
              <a:off x="9537840" y="12600"/>
              <a:ext cx="381456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1" name="RemarkBlock"/>
            <p:cNvSpPr/>
            <p:nvPr/>
          </p:nvSpPr>
          <p:spPr>
            <a:xfrm>
              <a:off x="9537840" y="1260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2" name="RemarkTitleText"/>
            <p:cNvSpPr/>
            <p:nvPr/>
          </p:nvSpPr>
          <p:spPr>
            <a:xfrm>
              <a:off x="977904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答案解析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443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446" name="AutoShape 5"/>
            <p:cNvSpPr/>
            <p:nvPr/>
          </p:nvSpPr>
          <p:spPr>
            <a:xfrm>
              <a:off x="5003640" y="2354760"/>
              <a:ext cx="3745080" cy="3764520"/>
            </a:xfrm>
            <a:custGeom>
              <a:avLst/>
              <a:gdLst>
                <a:gd name="textAreaLeft" fmla="*/ 548640 w 3745080"/>
                <a:gd name="textAreaRight" fmla="*/ 3196440 w 3745080"/>
                <a:gd name="textAreaTop" fmla="*/ 551160 h 3764520"/>
                <a:gd name="textAreaBottom" fmla="*/ 3213360 h 37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5563080" y="5423400"/>
              <a:ext cx="447120" cy="342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6202080" y="3521520"/>
              <a:ext cx="577800" cy="26438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6701040" y="3476880"/>
              <a:ext cx="590040" cy="25747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7041240" y="3276000"/>
              <a:ext cx="825120" cy="26636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7910640" y="355932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5553720" y="4203000"/>
              <a:ext cx="788040" cy="18093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7112520" y="2890440"/>
              <a:ext cx="693000" cy="114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6468840" y="238428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5732640" y="3535560"/>
              <a:ext cx="2320920" cy="85140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8" name="Freeform 17"/>
            <p:cNvSpPr/>
            <p:nvPr/>
          </p:nvSpPr>
          <p:spPr>
            <a:xfrm>
              <a:off x="5153400" y="3729240"/>
              <a:ext cx="3544200" cy="1541160"/>
            </a:xfrm>
            <a:custGeom>
              <a:avLst/>
              <a:gdLst>
                <a:gd name="textAreaLeft" fmla="*/ 0 w 3544200"/>
                <a:gd name="textAreaRight" fmla="*/ 3544560 w 354420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944680" y="4891680"/>
              <a:ext cx="2697840" cy="99036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6941880" y="2628000"/>
              <a:ext cx="1751400" cy="142632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7230960" y="263916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6728760" y="2566440"/>
              <a:ext cx="620280" cy="48816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6831720" y="244728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5003640" y="2457000"/>
              <a:ext cx="2008440" cy="25106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10640"/>
                <a:gd name="textAreaBottom" fmla="*/ 2511000 h 25106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5" name="Freeform 24"/>
            <p:cNvSpPr/>
            <p:nvPr/>
          </p:nvSpPr>
          <p:spPr>
            <a:xfrm>
              <a:off x="6321240" y="568008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>
              <a:off x="6192360" y="556380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>
              <a:off x="5216400" y="499716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5395320" y="4883400"/>
              <a:ext cx="109800" cy="368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5560560" y="459324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70" name="AutoShape 29"/>
            <p:cNvSpPr/>
            <p:nvPr/>
          </p:nvSpPr>
          <p:spPr>
            <a:xfrm rot="10800000">
              <a:off x="6065280" y="268560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71" name="Rectangle 30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  <a:ea typeface="굴림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  <a:ea typeface="굴림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引用指针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指针变量有关的运算符：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＆取地址运算符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针运算符（或称间接访问运算符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指针变量访问整型变量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nt a,b;         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*pointer_1,*pointer_2;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=100;b=10;       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er_1=&amp;a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ointer_2=&amp;b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&lt;&lt;″ ″&lt;&lt;b&lt;&lt;endl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*pointer_1&lt;&lt;″ ″&lt;&lt;*pointer_2&lt;&lt;endl;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&amp;*pointer_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含义是什么？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*&amp;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含义是什么？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6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69" name="Picture 3" descr="F:\计算机事业部电子教案\C++程序设计\tu\tu\图6.5.tif"/>
          <p:cNvPicPr/>
          <p:nvPr/>
        </p:nvPicPr>
        <p:blipFill>
          <a:blip r:embed="rId1"/>
          <a:stretch/>
        </p:blipFill>
        <p:spPr>
          <a:xfrm>
            <a:off x="5286240" y="2143080"/>
            <a:ext cx="2691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371600"/>
            <a:ext cx="8472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2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输入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个整数，按先大后小的顺序输出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*p1,*p2,*p,a,b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1=&amp;a;         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2=&amp;b;                                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a&lt;b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{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=p1;p1=p2;p2=p; 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a=″&lt;&lt;a&lt;&lt;″ b=″&lt;&lt;b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max=″&lt;&lt;*p1&lt;&lt;″ min=″&lt;&lt;*p2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73" name="Picture 3" descr="F:\计算机事业部电子教案\C++程序设计\tu\tu\图6.8.tif"/>
          <p:cNvPicPr/>
          <p:nvPr/>
        </p:nvPicPr>
        <p:blipFill>
          <a:blip r:embed="rId1"/>
          <a:stretch/>
        </p:blipFill>
        <p:spPr>
          <a:xfrm>
            <a:off x="4572000" y="2071800"/>
            <a:ext cx="3886200" cy="2103480"/>
          </a:xfrm>
          <a:prstGeom prst="rect">
            <a:avLst/>
          </a:prstGeom>
          <a:ln w="0">
            <a:noFill/>
          </a:ln>
        </p:spPr>
      </p:pic>
      <p:sp>
        <p:nvSpPr>
          <p:cNvPr id="174" name="矩形 5"/>
          <p:cNvSpPr/>
          <p:nvPr/>
        </p:nvSpPr>
        <p:spPr>
          <a:xfrm>
            <a:off x="4429080" y="42861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请注意：这个问题的算法是不交换整型变量的值，而是交换两个指针变量的值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44:19Z</dcterms:created>
  <dc:creator>Guorui Li</dc:creator>
  <dc:description/>
  <dc:language>en-US</dc:language>
  <cp:lastModifiedBy>GuoruiLi</cp:lastModifiedBy>
  <dcterms:modified xsi:type="dcterms:W3CDTF">2022-11-24T12:45:45Z</dcterms:modified>
  <cp:revision>852</cp:revision>
  <dc:subject/>
  <dc:title>PowerPoint Template</dc:title>
</cp:coreProperties>
</file>